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1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B2F8E-E031-427B-A660-3B9D81917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8BCC5-2641-4891-AB9A-BD8E7FF7F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977FA-B053-4C58-ABB0-EFABED097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39BDF-499F-44AF-81A9-5E8D10F42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7F52A-66D8-41F2-9C37-3DC149144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9B00-D9EE-4107-852F-0969D34D9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F04AD-EF01-413B-A2CD-7F4101BAC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E8B9F-4763-4782-98D7-BE73B6E03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D1E74-90EA-4155-A22D-3ECED596B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74081-C17A-4A98-8015-2D221AEC5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94EA6-0CE7-4AEF-B39E-24934844D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5F4A6-33B6-44F8-903B-CC62D9499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2DCBB-D807-47DB-A03A-B78E3A8ED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BFE12-0C80-474D-BA57-0095BEABF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2F8A6-EA24-4D91-8D4A-78C8C84AF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D38C0-7E45-4F2A-A637-BE24AE7DC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98A0E-BE3E-455A-B05F-E8B0CEA19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55972-B307-409F-93B1-EA519B908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28C50-495D-4B54-A34A-3DA5B20B5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6F053-4883-4BE6-8474-F40B5FA04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337B3-5933-4C2F-ABB1-B61990EC1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73C9-5349-4207-8C59-C928E7D07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D5847-78CB-4AE3-B499-5154B81DF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1FB32-3CA4-4112-A8B9-BD5EF8428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3106C-6FBF-46A3-A4F2-EFC8E4510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E4A09-76DA-406A-BCE4-63E128796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01254-3EB2-4670-B5D6-03F89F2CA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BCFF0-3B91-4422-A3B0-0A0872F3A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E84C9-DC4B-44AA-9F1B-473F215BD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7989E-5F1A-40ED-A344-1C367127D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9A19-95F2-4315-9FE9-0DFA2E120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D39FB-218F-49A0-ACEA-D8E35078D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BE2C1-DCB5-4A2C-A377-7F906B340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CC81C-92E5-4317-8962-798D718F8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380D5-AD7A-4205-8086-AE3D20549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41130-2437-4DB6-BAC7-0A915074E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09FA2-FE75-46D6-92B6-AFF020E9E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A39B0-FEFF-4807-8498-DE835C2DC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36B39-892F-481A-8591-6F0426D9E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DBF35-1814-477D-A1E6-D38BB9D77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8E37E-F4AB-4867-8138-278D9913E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6B24E-6158-446E-A00B-C6E7FEC78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6F099-AC5A-43F3-88AB-3D087B6F5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8EEF3-0D2C-4509-B26B-6DEAF9910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80C8-1437-495D-9712-067108176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912D3-FA8E-4679-A87F-361EC5E7C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C5A47-F469-4D73-B858-1F8CE7AA5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42033-414D-4D89-9F9E-4BFAA19D4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29E85-F9A8-481C-9CCF-9330B2D3E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39E06-7704-499A-BC37-9B075768E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5A4B2-B31F-42B8-9B5C-517DE3CFD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9C007-47F9-4A49-BFBF-67EF2A0FC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47C30-5002-4AD6-8676-EB57D0189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4F616-C69F-45E3-80D1-5B44DB15B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1B63E-485F-405A-9E90-D5AEA37EF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D7E66-6F81-480C-B44A-21D8AAA90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3E8A6-A5CE-4927-9262-363FF4C2A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BA22E-D436-4A50-9560-587581FBF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F99BC-FA50-4E30-B106-01C20077F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5C75F-F563-45AE-9157-6632E555F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004DC-1A83-43E8-AA98-8E86AC011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9D261-5975-42E0-BAEC-83DEB8604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984A8-6770-4216-9761-932C1D904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9F3E8-93EA-4DFD-B064-57A2A29F3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4B6FC-8041-4BE8-BB7C-6E5489D06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744F2-AFBF-4129-885C-A4A71E7C0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55EA4-CE3F-4992-A9D0-41BA57806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7E85C-4CB2-4601-BABA-2A14F1A71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7B07-E0A4-4C14-B594-67C6017A3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8237F-9A30-4D2B-AD26-9B41DB2AE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B56CE-0ACA-4B8B-B287-ABF068D61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3B3A6-3245-46D8-9DAF-CB1BA4E79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D0C1B-4311-4789-8D71-09A7A3C45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9EF14-136C-4F5A-A11E-5A7E14A44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FBAD3-1044-4367-B148-C698AA5CE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72105-48E1-4F4C-B5C2-24DC352BF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4DC1-3EB7-4480-97FB-600E6E3D9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82B56-C70B-433D-AF64-465DDC0C8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97866-0B95-464C-92C6-12C4341F4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E7A07-D1DF-489A-8B05-BBEB4F10A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6EBD5-1022-492E-801E-2E2488D63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78C3F-80F6-47E2-BB99-678FAF8FA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9F0-2CCC-46A9-8900-38515E51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A4C-98B1-43CA-BCB5-AC8C9207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F3CA2-2553-4A2E-B5F4-B3D8430B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80609-B6DB-4150-B6B5-B8C5175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BA81-B062-4F6E-AC69-9985F062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C9672-93B9-484E-9A6F-647E078F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D9CA-1589-46F4-BFDD-E541CF6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CF2A0-BD6A-4E85-9F33-D318FB0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DF335-4113-4574-A9EA-A3882E6D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46982-F722-48A1-B457-D3F7BC9F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7ECB-782C-4421-BEAA-FD3DB2F1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38DCF-7F5C-45F6-86BB-4144F8F7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74D-52E0-42FF-B433-26823903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D8E9D-F716-435B-A860-639A0D34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2E143-3394-40CB-A540-B829C661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9E102-954C-4798-8964-B92153E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57C0B-91BE-427D-B3E0-A9AFC58C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2A272-FB38-4C62-85F7-7C5074B0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3F96C-0921-47AC-9410-0ACFBAA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6A97A-0398-4503-9BA7-1B3831B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10EF7-B226-4DA5-A82B-4227305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DBDDE-141A-4B2C-BC7C-A883C838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DF5C3-DF79-4C8D-ADBE-54B5C7BE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BDB-F978-46EF-B771-9C8F8B0A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87716-A95B-4B29-B475-05FDE426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67B46-0CB5-406F-9994-2A04110E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EFEC6-EE0A-4A68-ABD9-F726615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7A050-F91B-435C-A089-93368EF0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F343E-2700-4BD8-B0C6-99AF789F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E0AF7-0D78-49BE-A6DA-04612060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E2674-DCDE-47C9-B6D5-C19036C1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A659F-0E06-4D0E-B4B9-9E6CB841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D1FE7-0FE2-4883-BC19-6B59ED8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B4E79-EC05-4367-A43C-694D58F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02BA-0F7C-4432-B42D-E85553AC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A24D5-ACA6-4BCD-A726-560559DD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4CD69-45C7-4FD0-9530-41E9D72A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5D002-4221-4B09-B692-EDE46558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BB591-AC85-418F-A2F2-3B3B4FB3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5DB07-6071-41D0-B049-9985117C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A98F6-D854-49AE-A55F-18D07A89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F61B1-F82D-4B08-B4EA-612C765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C6359-769A-4C58-BEAB-D947D9C6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A34C6-CC04-4645-B0A1-800D180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BBF33-867F-42CC-9FA0-E58FDA1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823E-9B09-4DBD-9E6B-63324C06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3423A-A9D3-4A7F-AE56-9707B4D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F9C75-F1C3-4599-8E36-D0FA9A74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BCFA6-E92F-443A-AD56-1382DB45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D7973-3482-4DCD-B50A-CBE48735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A6779-700A-4460-88F2-2C217A7E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D2074-9B51-4FC7-838A-A3F01978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FED52-9E9C-4ED7-B5C0-89540CE1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950E8-C554-4A08-BE17-4BD4BDC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C519E-594F-4486-953A-A1469E9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88A5B-365D-440E-98A8-C5E45ECB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BFBF-1021-46CE-8C28-5C57E09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D4D37-2F4D-4808-A267-27A0F1D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C2A56-176C-4DC6-B102-71EF5A4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7A232-8550-4570-8EA0-F7DC207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37936-F252-4E49-8BDB-AC675A1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227E5-694D-436A-BAC7-97D2CEB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E4DE5-7643-4AFA-8BB1-DC22B5DF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58191-A1A5-424E-B62C-9DE45774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C4FC8-0B37-4257-ACAA-D23CD8FA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C9498-ABFC-4FD2-AFAB-A4714CBE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EC3F6-E4DB-4D0C-8A52-5C4F797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056F-31E8-4C62-9679-65174F40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1AD45-A3E1-4AE8-B931-162BE5D4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107FB-CF26-40F4-A62F-9FF9FF6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9DBFC-AE36-4DEC-8C89-B5AD2BD8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6D362-B75C-495A-A864-03816FC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3D771-C202-4E4F-8A24-233FE085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C2571-3E27-41E1-B4BF-0453322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91C33-4266-4E2A-BABA-9AB9EA23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3A7D0-B4A2-4848-996B-6E8863F7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6DDAE-7E70-4A59-97AE-2A817E4E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E8A1D-63C8-43A1-AEFB-09071EF5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B9E8-94D5-4F7C-90DA-B77CAED1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1B2BD-9E81-469A-A617-2AE8FDD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4917E-C928-4113-8937-E1BBCE03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E7845-CD60-4228-9BE1-0723258F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BA7DC-66AC-4870-AB44-E5BDF99A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DC621-0BD0-448A-926C-1091EDBE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8E8D3-2A9B-4485-85F0-B9B2524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95547-F5FC-40C0-920E-443D2CE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3C586-2659-4DA6-ADD7-F26D81C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1AFB7-136F-4215-9D3C-7F95464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E7173-B374-4F45-851B-A4A84E27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09CA-D8BA-4419-9496-D38EDF83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D4C5A-01B5-47BC-A447-FC93DEE2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78C22-B5B7-4524-90EC-122A2D99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A9F02-EA9C-45A2-8E14-40EE3DA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F15A1-5E23-4192-A173-19EE5608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459E6-29E8-4B4F-AAE2-CB3DD89E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6BE08-66AE-43EF-AD2F-BE1A5578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5391F-46B9-4BCD-9504-8E6AF094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2CE9D-E27C-4C19-B59F-C78ACB44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1492A-CD7A-4F91-9D12-7D382030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2E028-E603-4131-8151-09F1057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CDDE-A312-45FE-B70C-93C9EAD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01C08-E7CF-4769-A9A2-33ED8A7B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8E0E7-1896-479C-A7A3-801C59FF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CC2B7-6728-49FA-BD10-BA750626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855-A0F9-45AE-8B7A-6F49A036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4D21-BA02-4FD3-82E1-147E985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3608-5548-4CF9-BE85-D873ED1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7EEB-F693-4201-A041-D77B8B9E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118C-AFFD-49DA-AFFF-F2109A76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8273-EFEE-4229-B985-AF342064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E0FE-6006-4584-875A-617AB9BC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7FDC-4FEB-433E-A8A9-B23C2139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25A9-7FDF-46F1-8CDA-6F056D64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30DE-53D4-4294-BF17-717E000D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A0FA-7B4D-451A-B711-A20F4A61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F8C-D760-47B7-8590-EFD8730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08D9-5184-4326-9C6F-ACF53DF1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47F8-1762-4452-A2CA-A5AB5B4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F3D8-09C5-4171-8B36-1FA9D31C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421C-32EA-4810-8E9A-4A22A41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9585-B2AE-4762-9DF0-0029F0A2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9D06-36C7-45A9-B8A0-DCB736BF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6E51-3B08-441C-B5D8-DB9B74D8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47CC-DE82-44EA-8278-E15C7613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A503-3DAA-4F0D-B0F0-D4C54A7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BFB0-CFB7-4A3C-BC68-3FC9E8AA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B30-6FD4-480B-9869-AE03666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FE0E-AA44-4682-AE61-403995BA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B841-6705-41D2-9AAC-ECFBDC38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9E46-4C5B-4F64-9540-6ED7EFA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F29AC-FF84-4622-87ED-79B4255E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9258-89E6-443E-8722-2EB8798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FD9D-C516-4406-8D3B-D2C555DD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6250-E330-4BD4-85B5-A868770B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1242-A75D-4A79-9E6C-8AB03C53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2785-242F-4A44-9EA7-9F2FC109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D37D-D289-468D-8CF5-9399361E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C63-0B0D-4C79-A9D6-5068A94E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5FF3-AA3A-4018-BD57-7E98D4C9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7DB3-EE19-4998-A483-894626B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B703-8805-4A39-86FB-9A7A44FB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510BB-F1B1-487C-AE65-66F71BD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43F4-5EDC-4A8B-A037-10D5C0D4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790BD-393A-4EBD-8004-B97E5B6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E3FE-AC88-4887-A091-400BC94C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E32C-974E-4E6E-8D28-0553CAE2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E1D7-A52B-47E7-8ECF-1F1C5EB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43F75-25FA-429F-867A-73D38ABC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B62-EDE4-4CF9-A70E-EE2B945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75FD-5417-42D0-BE5E-97B6A500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1A15-6084-434B-8419-38AE1DB4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5DB6-8DC7-4233-991E-36D0E96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1BF8-81F5-44BE-8178-7A01739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4256-4823-4366-AAD4-1ED59AC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8793-8B80-495E-BEEE-B822CDB6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BF5C-D511-4EF1-AB05-CD5E8FCC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40B01-F161-4A01-B581-8799911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0374D-F9D8-45BA-AB98-61A7859F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76F8-B532-4D08-83C9-43D9F2E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607-A461-4766-9BB7-2CB3B17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5F29-C0C6-404F-BD08-D886251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ADEA-0316-44F7-9A6F-ACAEAA42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B195F-136A-4765-81DB-4B09236C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295DB-C00F-4AA1-9193-237E2A70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7AF0-B2EA-4E2F-946E-168F2DF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5B8E5-954E-4FA1-BEAF-FE48435B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6A9DE-5FBB-485E-87B9-E5847300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D6A7C-B43D-4131-A82C-326A795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E368C-92ED-48BC-B1EC-9FF9995F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4B4B8-14B1-46D4-AE78-A3C3551B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1D0-8157-4F41-807F-E2B6DFD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06D44-0359-4DCA-8DAC-7D7B48D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62CE-357B-4CD5-B35A-E51A150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7AFFF-3944-4C1A-9741-0C60FED8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E9241-2991-4800-A21D-7D372F13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CE989-FA66-4B1D-A403-35CFE533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F9094-69E1-4B8A-98F2-01B9A9E3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1C404-095F-4769-9D0D-4A38C54F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C563-A6A8-4689-98BE-49576632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E1B04-3583-4D98-9A53-E64233F9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3679-B7E1-4127-BEDA-C25DF236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E1C-6528-4B3E-BEA8-B173969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6E2FF-4268-481F-9E4C-84196815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87A0-340D-4E95-89B2-08976058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BCCC5-5954-4DA6-B4E0-4AEB6468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B075A-37AE-41BB-9562-43450FD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B53E-1089-43A2-A6CE-F39D5879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3712-57BF-4D7B-A55F-2A796F93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11838-31CB-446A-875C-235DCF9A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2703C-F4AB-448D-BC04-102F7522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BE6BA-8010-4972-96FB-278474A1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03C91-9663-496A-A978-9597B2AB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E183-84F3-4ED9-A9A6-8F7F699D81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8D2381-0C81-4902-B10A-BD831D3753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97B4-15E0-4E3B-9F55-E496EA73B1E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7F764C70-5270-42F4-B7AB-2113BF3851A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ED5F-383E-43C2-B1A4-040E26D49AA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C4EABA31-E40E-4622-BE4A-0B729A14B14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CD80-F85F-4D67-8CC6-2671F21867F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8299CACF-BC16-4983-BC79-14EF8C0BCB1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F2C-A833-4855-9AA8-BD3E15B0570C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3370FAFD-BD48-4D14-9E10-D41DDC64FD1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431-A510-4F7F-810B-960CEB0974EC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EAF8D611-8040-41B6-AC44-E6F113531C7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A192-E6C8-4FE7-9A66-A42837DB43A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E8C68372-E831-4965-AC2A-3125BDC5F4D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A2A-9931-48F1-A472-041B4512814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fld id="{F177CAE9-0443-42A4-9049-DC9471F1BD3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Applica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402C-EF06-42D8-B798-B8879D937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6646-1EE8-4CE6-B0DB-FE24A23FAE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3E86E0-96C7-4397-B25D-B0F6AF1649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BB91-6029-4B57-B738-407510ABAF7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8B6B9805-40D0-40B2-9577-E4C5709EFFC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152-49DA-4C53-811E-F08675BA4F6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35661789-F77E-4342-899A-96F0444A1DD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1BEE-81C3-44E0-A8B9-4DAD5C7FBEA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299D03AD-D0EA-4E8A-A232-D545DE8D002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5FD7-6B02-45A7-AF62-92DFCF11AF49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F47EF678-3A11-4B45-818C-7A6F5D09191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8D7-9641-4809-B1CB-C0517BE7566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C3C13F24-EB9F-4C7F-B5CD-CCD547E4CEB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99BC-2AE7-4E37-8D1A-B433D82DD13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FBB6A1B2-D9DA-43FA-814D-A8CF0DF6F7C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1200FEFF-65B5-44DC-9DF0-A63C78EE854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9" descr="underline_base"/>
          <p:cNvPicPr/>
          <p:nvPr/>
        </p:nvPicPr>
        <p:blipFill>
          <a:blip r:embed="rId2"/>
          <a:stretch/>
        </p:blipFill>
        <p:spPr>
          <a:xfrm>
            <a:off x="452520" y="2097000"/>
            <a:ext cx="3655800" cy="173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" descr="6e_cover.jpg"/>
          <p:cNvPicPr/>
          <p:nvPr/>
        </p:nvPicPr>
        <p:blipFill>
          <a:blip r:embed="rId3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7B7C092-80FF-42D3-AA6F-A3DD41650C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4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95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915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9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932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6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943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4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946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7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949F7FD-7FE1-43CE-8CDA-409BD952A2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0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4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5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6166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409243E-DDCA-4971-80CA-C693AA6FDB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6171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6172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4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6175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6176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8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9" name="Group 11"/>
          <p:cNvGrpSpPr/>
          <p:nvPr/>
        </p:nvGrpSpPr>
        <p:grpSpPr>
          <a:xfrm>
            <a:off x="5131800" y="3023280"/>
            <a:ext cx="2360880" cy="729360"/>
            <a:chOff x="5131800" y="3023280"/>
            <a:chExt cx="2360880" cy="729360"/>
          </a:xfrm>
        </p:grpSpPr>
        <p:sp>
          <p:nvSpPr>
            <p:cNvPr id="6180" name="Text Box 12"/>
            <p:cNvSpPr/>
            <p:nvPr/>
          </p:nvSpPr>
          <p:spPr>
            <a:xfrm>
              <a:off x="5131800" y="302328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2" name="Text Box 22"/>
          <p:cNvSpPr/>
          <p:nvPr/>
        </p:nvSpPr>
        <p:spPr>
          <a:xfrm>
            <a:off x="54396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4" name="Group 24"/>
          <p:cNvGrpSpPr/>
          <p:nvPr/>
        </p:nvGrpSpPr>
        <p:grpSpPr>
          <a:xfrm>
            <a:off x="2978280" y="3808440"/>
            <a:ext cx="4046760" cy="1371600"/>
            <a:chOff x="2978280" y="3808440"/>
            <a:chExt cx="4046760" cy="1371600"/>
          </a:xfrm>
        </p:grpSpPr>
        <p:sp>
          <p:nvSpPr>
            <p:cNvPr id="6185" name="Line 25"/>
            <p:cNvSpPr/>
            <p:nvPr/>
          </p:nvSpPr>
          <p:spPr>
            <a:xfrm flipH="1">
              <a:off x="6064560" y="4503600"/>
              <a:ext cx="936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6" name="Group 26"/>
            <p:cNvGrpSpPr/>
            <p:nvPr/>
          </p:nvGrpSpPr>
          <p:grpSpPr>
            <a:xfrm>
              <a:off x="2978280" y="3808440"/>
              <a:ext cx="4046760" cy="819000"/>
              <a:chOff x="2978280" y="3808440"/>
              <a:chExt cx="4046760" cy="819000"/>
            </a:xfrm>
          </p:grpSpPr>
          <p:sp>
            <p:nvSpPr>
              <p:cNvPr id="6187" name="Text Box 27"/>
              <p:cNvSpPr/>
              <p:nvPr/>
            </p:nvSpPr>
            <p:spPr>
              <a:xfrm>
                <a:off x="5334120" y="404388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Line 28"/>
              <p:cNvSpPr/>
              <p:nvPr/>
            </p:nvSpPr>
            <p:spPr>
              <a:xfrm>
                <a:off x="606456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Line 29"/>
              <p:cNvSpPr/>
              <p:nvPr/>
            </p:nvSpPr>
            <p:spPr>
              <a:xfrm flipH="1">
                <a:off x="2978280" y="4227480"/>
                <a:ext cx="240984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0" name="Group 30"/>
          <p:cNvGrpSpPr/>
          <p:nvPr/>
        </p:nvGrpSpPr>
        <p:grpSpPr>
          <a:xfrm>
            <a:off x="1343880" y="3903840"/>
            <a:ext cx="4100760" cy="1488600"/>
            <a:chOff x="1343880" y="3903840"/>
            <a:chExt cx="4100760" cy="1488600"/>
          </a:xfrm>
        </p:grpSpPr>
        <p:sp>
          <p:nvSpPr>
            <p:cNvPr id="6191" name="Text Box 31"/>
            <p:cNvSpPr/>
            <p:nvPr/>
          </p:nvSpPr>
          <p:spPr>
            <a:xfrm>
              <a:off x="134388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Text Box 32"/>
            <p:cNvSpPr/>
            <p:nvPr/>
          </p:nvSpPr>
          <p:spPr>
            <a:xfrm>
              <a:off x="139140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6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6197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8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6199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1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2" name="Group 53"/>
          <p:cNvGrpSpPr/>
          <p:nvPr/>
        </p:nvGrpSpPr>
        <p:grpSpPr>
          <a:xfrm>
            <a:off x="1298520" y="4251240"/>
            <a:ext cx="5443920" cy="1952280"/>
            <a:chOff x="1298520" y="4251240"/>
            <a:chExt cx="5443920" cy="1952280"/>
          </a:xfrm>
        </p:grpSpPr>
        <p:sp>
          <p:nvSpPr>
            <p:cNvPr id="6203" name="Text Box 15"/>
            <p:cNvSpPr/>
            <p:nvPr/>
          </p:nvSpPr>
          <p:spPr>
            <a:xfrm>
              <a:off x="135036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6" name="Group 18"/>
            <p:cNvGrpSpPr/>
            <p:nvPr/>
          </p:nvGrpSpPr>
          <p:grpSpPr>
            <a:xfrm>
              <a:off x="5360760" y="5102280"/>
              <a:ext cx="1381680" cy="1101240"/>
              <a:chOff x="5360760" y="5102280"/>
              <a:chExt cx="1381680" cy="1101240"/>
            </a:xfrm>
          </p:grpSpPr>
          <p:sp>
            <p:nvSpPr>
              <p:cNvPr id="6207" name="Text Box 19"/>
              <p:cNvSpPr/>
              <p:nvPr/>
            </p:nvSpPr>
            <p:spPr>
              <a:xfrm>
                <a:off x="536076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Text Box 20"/>
              <p:cNvSpPr/>
              <p:nvPr/>
            </p:nvSpPr>
            <p:spPr>
              <a:xfrm>
                <a:off x="540000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6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6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6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6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6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3178431-9A32-4236-9E90-A9104ACCC8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3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From Server:’, modified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4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5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6216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8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9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6220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6221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F37FE4-B88F-47C8-A9AC-4CE3DA069F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TextBox 1"/>
          <p:cNvSpPr/>
          <p:nvPr/>
        </p:nvSpPr>
        <p:spPr>
          <a:xfrm>
            <a:off x="2734200" y="1650960"/>
            <a:ext cx="59644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TextBox 2"/>
          <p:cNvSpPr/>
          <p:nvPr/>
        </p:nvSpPr>
        <p:spPr>
          <a:xfrm>
            <a:off x="2771280" y="116856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8" name="Group 13"/>
          <p:cNvGrpSpPr/>
          <p:nvPr/>
        </p:nvGrpSpPr>
        <p:grpSpPr>
          <a:xfrm>
            <a:off x="152280" y="2173320"/>
            <a:ext cx="2559240" cy="564480"/>
            <a:chOff x="152280" y="2173320"/>
            <a:chExt cx="2559240" cy="564480"/>
          </a:xfrm>
        </p:grpSpPr>
        <p:sp>
          <p:nvSpPr>
            <p:cNvPr id="6229" name="TextBox 31"/>
            <p:cNvSpPr/>
            <p:nvPr/>
          </p:nvSpPr>
          <p:spPr>
            <a:xfrm>
              <a:off x="152280" y="217332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Straight Connector 32"/>
            <p:cNvSpPr/>
            <p:nvPr/>
          </p:nvSpPr>
          <p:spPr>
            <a:xfrm>
              <a:off x="1695960" y="259560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1" name="Group 14"/>
          <p:cNvGrpSpPr/>
          <p:nvPr/>
        </p:nvGrpSpPr>
        <p:grpSpPr>
          <a:xfrm>
            <a:off x="131760" y="3036960"/>
            <a:ext cx="2540160" cy="520200"/>
            <a:chOff x="131760" y="3036960"/>
            <a:chExt cx="2540160" cy="520200"/>
          </a:xfrm>
        </p:grpSpPr>
        <p:sp>
          <p:nvSpPr>
            <p:cNvPr id="6232" name="TextBox 26"/>
            <p:cNvSpPr/>
            <p:nvPr/>
          </p:nvSpPr>
          <p:spPr>
            <a:xfrm>
              <a:off x="131760" y="303696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Straight Connector 30"/>
            <p:cNvSpPr/>
            <p:nvPr/>
          </p:nvSpPr>
          <p:spPr>
            <a:xfrm>
              <a:off x="1944720" y="332172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4" name="Group 15"/>
          <p:cNvGrpSpPr/>
          <p:nvPr/>
        </p:nvGrpSpPr>
        <p:grpSpPr>
          <a:xfrm>
            <a:off x="528480" y="3816360"/>
            <a:ext cx="2156040" cy="297000"/>
            <a:chOff x="528480" y="3816360"/>
            <a:chExt cx="2156040" cy="297000"/>
          </a:xfrm>
        </p:grpSpPr>
        <p:sp>
          <p:nvSpPr>
            <p:cNvPr id="6235" name="TextBox 34"/>
            <p:cNvSpPr/>
            <p:nvPr/>
          </p:nvSpPr>
          <p:spPr>
            <a:xfrm>
              <a:off x="528480" y="381636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Straight Connector 35"/>
            <p:cNvSpPr/>
            <p:nvPr/>
          </p:nvSpPr>
          <p:spPr>
            <a:xfrm flipV="1">
              <a:off x="1240560" y="406584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7" name="Group 17"/>
          <p:cNvGrpSpPr/>
          <p:nvPr/>
        </p:nvGrpSpPr>
        <p:grpSpPr>
          <a:xfrm>
            <a:off x="198360" y="4176720"/>
            <a:ext cx="2813040" cy="747360"/>
            <a:chOff x="198360" y="4176720"/>
            <a:chExt cx="2813040" cy="747360"/>
          </a:xfrm>
        </p:grpSpPr>
        <p:sp>
          <p:nvSpPr>
            <p:cNvPr id="6238" name="TextBox 36"/>
            <p:cNvSpPr/>
            <p:nvPr/>
          </p:nvSpPr>
          <p:spPr>
            <a:xfrm>
              <a:off x="198360" y="417672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Straight Connector 39"/>
            <p:cNvSpPr/>
            <p:nvPr/>
          </p:nvSpPr>
          <p:spPr>
            <a:xfrm flipV="1">
              <a:off x="2375280" y="444024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0" name="Group 18"/>
          <p:cNvGrpSpPr/>
          <p:nvPr/>
        </p:nvGrpSpPr>
        <p:grpSpPr>
          <a:xfrm>
            <a:off x="258840" y="5149800"/>
            <a:ext cx="2860560" cy="520200"/>
            <a:chOff x="258840" y="5149800"/>
            <a:chExt cx="2860560" cy="520200"/>
          </a:xfrm>
        </p:grpSpPr>
        <p:sp>
          <p:nvSpPr>
            <p:cNvPr id="6241" name="TextBox 61"/>
            <p:cNvSpPr/>
            <p:nvPr/>
          </p:nvSpPr>
          <p:spPr>
            <a:xfrm>
              <a:off x="258840" y="514980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Straight Connector 62"/>
            <p:cNvSpPr/>
            <p:nvPr/>
          </p:nvSpPr>
          <p:spPr>
            <a:xfrm>
              <a:off x="1818360" y="516996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3" name="Group 28"/>
          <p:cNvGrpSpPr/>
          <p:nvPr/>
        </p:nvGrpSpPr>
        <p:grpSpPr>
          <a:xfrm>
            <a:off x="127080" y="5759280"/>
            <a:ext cx="2878200" cy="733320"/>
            <a:chOff x="127080" y="5759280"/>
            <a:chExt cx="2878200" cy="733320"/>
          </a:xfrm>
        </p:grpSpPr>
        <p:sp>
          <p:nvSpPr>
            <p:cNvPr id="6244" name="TextBox 29"/>
            <p:cNvSpPr/>
            <p:nvPr/>
          </p:nvSpPr>
          <p:spPr>
            <a:xfrm>
              <a:off x="127080" y="575928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Straight Connector 33"/>
            <p:cNvSpPr/>
            <p:nvPr/>
          </p:nvSpPr>
          <p:spPr>
            <a:xfrm>
              <a:off x="2149200" y="591624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46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6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" dur="500"/>
                                        <p:tgtEl>
                                          <p:spTgt spid="6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6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6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7" dur="500"/>
                                        <p:tgtEl>
                                          <p:spTgt spid="6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6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6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3" dur="500"/>
                                        <p:tgtEl>
                                          <p:spTgt spid="6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99EE975-4336-45B8-9CDB-F8DACCEFF2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9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3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, D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A598AA5-AAD7-43E7-ABFD-EF7BFD5BD2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PlaceHolder 1"/>
          <p:cNvSpPr>
            <a:spLocks noGrp="1"/>
          </p:cNvSpPr>
          <p:nvPr>
            <p:ph/>
          </p:nvPr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s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: info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7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data m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sg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8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6259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241C5FD-5CC9-418E-B798-CACE288D65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0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4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8408ECB-7E96-471C-BCBE-945F1F4CA6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7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FC51EE1-9BBE-4BAB-A2AC-8C2660EC26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37944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04640" y="3723840"/>
            <a:ext cx="381024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6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7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968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B07C13-E9F2-4839-902B-627E23910F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1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73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F8E53E2-896E-4A26-9A12-6B4292A58B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533160" y="1533240"/>
            <a:ext cx="409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90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A475B7B-1700-48F4-BB32-4FB9C3E869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3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5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s use SSL libraries, which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encry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e Chapter 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2904A2-E585-486E-9DFB-1356F88CC3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351" descr="underline_base"/>
          <p:cNvPicPr/>
          <p:nvPr/>
        </p:nvPicPr>
        <p:blipFill>
          <a:blip r:embed="rId1"/>
          <a:stretch/>
        </p:blipFill>
        <p:spPr>
          <a:xfrm>
            <a:off x="460440" y="1050840"/>
            <a:ext cx="2825640" cy="1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72EAB36-D413-4B82-BB90-7505122414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6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C543E0E-B7FA-493A-B3CA-BF96A01875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21" name="Group 10"/>
          <p:cNvGrpSpPr/>
          <p:nvPr/>
        </p:nvGrpSpPr>
        <p:grpSpPr>
          <a:xfrm>
            <a:off x="1198080" y="4486320"/>
            <a:ext cx="6839280" cy="1146960"/>
            <a:chOff x="1198080" y="4486320"/>
            <a:chExt cx="6839280" cy="1146960"/>
          </a:xfrm>
        </p:grpSpPr>
        <p:sp>
          <p:nvSpPr>
            <p:cNvPr id="2022" name="Text Box 5"/>
            <p:cNvSpPr/>
            <p:nvPr/>
          </p:nvSpPr>
          <p:spPr>
            <a:xfrm>
              <a:off x="119808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7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8AD21B6-6E4B-44EF-954D-168794FAF3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7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B7C908-5746-4F65-A65A-AF8B789C73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2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 Box 23"/>
          <p:cNvSpPr/>
          <p:nvPr/>
        </p:nvSpPr>
        <p:spPr>
          <a:xfrm>
            <a:off x="4820760" y="5218200"/>
            <a:ext cx="152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5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2036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8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2039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1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656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042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2043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2046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8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2049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205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2053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8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2059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1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2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2063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7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2068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0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1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2072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4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F7B9301-894B-4CF3-9158-E04ECBB7DA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2" name="Rectangle 6"/>
          <p:cNvSpPr/>
          <p:nvPr/>
        </p:nvSpPr>
        <p:spPr>
          <a:xfrm>
            <a:off x="4919760" y="346392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27AB317-8435-4C55-9BA2-FE7FCB7D4F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00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D90905-5F65-4E1D-9BA2-65009C3262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104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9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8A283A3-B002-470F-B036-9A4C380D9A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1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4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99D46AD-170B-4738-B890-95C5028B31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2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5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156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1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162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4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5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166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171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175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7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8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89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0165725-900D-4E83-BEAE-4060184777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96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D888CB8-AE04-40AD-8330-D724920D4F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9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2" name="Text Box 5"/>
          <p:cNvSpPr/>
          <p:nvPr/>
        </p:nvSpPr>
        <p:spPr>
          <a:xfrm>
            <a:off x="224640" y="303696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6"/>
          <p:cNvSpPr/>
          <p:nvPr/>
        </p:nvSpPr>
        <p:spPr>
          <a:xfrm>
            <a:off x="1925640" y="336852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7"/>
          <p:cNvSpPr/>
          <p:nvPr/>
        </p:nvSpPr>
        <p:spPr>
          <a:xfrm>
            <a:off x="2776680" y="370512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 Box 8"/>
          <p:cNvSpPr/>
          <p:nvPr/>
        </p:nvSpPr>
        <p:spPr>
          <a:xfrm>
            <a:off x="1739880" y="422280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Line 10"/>
          <p:cNvSpPr/>
          <p:nvPr/>
        </p:nvSpPr>
        <p:spPr>
          <a:xfrm>
            <a:off x="2309760" y="578952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11"/>
          <p:cNvSpPr/>
          <p:nvPr/>
        </p:nvSpPr>
        <p:spPr>
          <a:xfrm>
            <a:off x="187560" y="5121360"/>
            <a:ext cx="234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16"/>
          <p:cNvSpPr/>
          <p:nvPr/>
        </p:nvSpPr>
        <p:spPr>
          <a:xfrm>
            <a:off x="2454840" y="340344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Line 17"/>
          <p:cNvSpPr/>
          <p:nvPr/>
        </p:nvSpPr>
        <p:spPr>
          <a:xfrm flipH="1">
            <a:off x="6333840" y="292104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Text Box 18"/>
          <p:cNvSpPr/>
          <p:nvPr/>
        </p:nvSpPr>
        <p:spPr>
          <a:xfrm>
            <a:off x="6046920" y="263376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19"/>
          <p:cNvSpPr/>
          <p:nvPr/>
        </p:nvSpPr>
        <p:spPr>
          <a:xfrm>
            <a:off x="6197040" y="293040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Line 20"/>
          <p:cNvSpPr/>
          <p:nvPr/>
        </p:nvSpPr>
        <p:spPr>
          <a:xfrm flipH="1">
            <a:off x="6614640" y="323064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4E33F3C-4F5C-41C3-913C-00745DD622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31"/>
          <p:cNvSpPr/>
          <p:nvPr/>
        </p:nvSpPr>
        <p:spPr>
          <a:xfrm>
            <a:off x="560448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23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Text Box 41"/>
            <p:cNvSpPr/>
            <p:nvPr/>
          </p:nvSpPr>
          <p:spPr>
            <a:xfrm>
              <a:off x="452484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24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Text Box 52"/>
            <p:cNvSpPr/>
            <p:nvPr/>
          </p:nvSpPr>
          <p:spPr>
            <a:xfrm>
              <a:off x="452160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25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26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Group 77"/>
          <p:cNvGrpSpPr/>
          <p:nvPr/>
        </p:nvGrpSpPr>
        <p:grpSpPr>
          <a:xfrm>
            <a:off x="851040" y="4065480"/>
            <a:ext cx="1464480" cy="446040"/>
            <a:chOff x="851040" y="4065480"/>
            <a:chExt cx="1464480" cy="446040"/>
          </a:xfrm>
        </p:grpSpPr>
        <p:sp>
          <p:nvSpPr>
            <p:cNvPr id="226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Text Box 73"/>
            <p:cNvSpPr/>
            <p:nvPr/>
          </p:nvSpPr>
          <p:spPr>
            <a:xfrm>
              <a:off x="85104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27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27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593177E-5ADE-4684-9968-94A955DD55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8" name="Text Box 5"/>
          <p:cNvSpPr/>
          <p:nvPr/>
        </p:nvSpPr>
        <p:spPr>
          <a:xfrm>
            <a:off x="178632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FD03584-AEB0-4B0A-9452-2DA043218C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3D00C29-A97F-48B8-8C4B-291A0682EC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864B1C0-AF6A-4821-9D26-33C16FD938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10"/>
          <p:cNvSpPr/>
          <p:nvPr/>
        </p:nvSpPr>
        <p:spPr>
          <a:xfrm>
            <a:off x="293400" y="529740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8A7C470-003E-4522-9C85-DD573E493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8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1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3BD34BA-4485-4F81-A418-35F8C48B6F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4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Text Box 5"/>
          <p:cNvSpPr/>
          <p:nvPr/>
        </p:nvSpPr>
        <p:spPr>
          <a:xfrm>
            <a:off x="3984120" y="2155680"/>
            <a:ext cx="44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at cis.poly.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cis.poly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6"/>
          <p:cNvSpPr/>
          <p:nvPr/>
        </p:nvSpPr>
        <p:spPr>
          <a:xfrm>
            <a:off x="686880" y="21906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cis.poly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7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8"/>
          <p:cNvSpPr/>
          <p:nvPr/>
        </p:nvSpPr>
        <p:spPr>
          <a:xfrm>
            <a:off x="1378080" y="41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~ross/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cis.poly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11"/>
          <p:cNvSpPr/>
          <p:nvPr/>
        </p:nvSpPr>
        <p:spPr>
          <a:xfrm>
            <a:off x="4849200" y="40989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Freeform 12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>
              <a:gd name="textAreaLeft" fmla="*/ 0 w 247680"/>
              <a:gd name="textAreaRight" fmla="*/ 248040 w 247680"/>
              <a:gd name="textAreaTop" fmla="*/ 0 h 1181160"/>
              <a:gd name="textAreaBottom" fmla="*/ 1181160 h 11811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Freeform 13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>
              <a:gd name="textAreaLeft" fmla="*/ 0 w 257400"/>
              <a:gd name="textAreaRight" fmla="*/ 257760 w 25740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14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-397080" y="6029280"/>
            <a:ext cx="9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4170E3E-BC23-4147-BEDE-60BED47602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1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00843A2-1101-48F4-BDEE-19B6B1C798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4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36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8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339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0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341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3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344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5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346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8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351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5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356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8" name="Group 81"/>
          <p:cNvGrpSpPr/>
          <p:nvPr/>
        </p:nvGrpSpPr>
        <p:grpSpPr>
          <a:xfrm>
            <a:off x="935640" y="1922400"/>
            <a:ext cx="1069200" cy="565200"/>
            <a:chOff x="935640" y="1922400"/>
            <a:chExt cx="1069200" cy="565200"/>
          </a:xfrm>
        </p:grpSpPr>
        <p:sp>
          <p:nvSpPr>
            <p:cNvPr id="2359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Text Box 60"/>
            <p:cNvSpPr/>
            <p:nvPr/>
          </p:nvSpPr>
          <p:spPr>
            <a:xfrm>
              <a:off x="93564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362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366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9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370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2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373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5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376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Group 77"/>
          <p:cNvGrpSpPr/>
          <p:nvPr/>
        </p:nvGrpSpPr>
        <p:grpSpPr>
          <a:xfrm>
            <a:off x="865080" y="5351400"/>
            <a:ext cx="1389240" cy="633600"/>
            <a:chOff x="865080" y="5351400"/>
            <a:chExt cx="1389240" cy="633600"/>
          </a:xfrm>
        </p:grpSpPr>
        <p:sp>
          <p:nvSpPr>
            <p:cNvPr id="2382" name="AutoShape 78"/>
            <p:cNvSpPr/>
            <p:nvPr/>
          </p:nvSpPr>
          <p:spPr>
            <a:xfrm>
              <a:off x="935640" y="5351400"/>
              <a:ext cx="1146960" cy="6336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4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6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87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2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93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5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6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97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9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1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402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4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5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406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8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9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420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1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7C7FF9-DAF4-4982-B95E-4F87C549EA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4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7" name="Rectangle 13"/>
          <p:cNvSpPr/>
          <p:nvPr/>
        </p:nvSpPr>
        <p:spPr>
          <a:xfrm>
            <a:off x="4911840" y="1411200"/>
            <a:ext cx="3809880" cy="223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15"/>
          <p:cNvSpPr/>
          <p:nvPr/>
        </p:nvSpPr>
        <p:spPr>
          <a:xfrm>
            <a:off x="41112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20C6899-4931-4A26-85FA-302D70A610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433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4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436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7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439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4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445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7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8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449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1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3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454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6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7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458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0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472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7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478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0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1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82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4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6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87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9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0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91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4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279360" y="1956960"/>
            <a:ext cx="3767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7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1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512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515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518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1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4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525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526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9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0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1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532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533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8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539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1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2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543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5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7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548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0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1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552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4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FCDB8B-D819-47AC-849C-34E380C572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7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CACAF12-F04F-4B2B-9B81-160B7AAC38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3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574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76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2" name="Group 11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2593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6" name="Group 11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2597" name="Freeform 11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1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9" name="Line 11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Line 11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1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2602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5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2606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8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0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3" name="Group 139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2614" name="Freeform 140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41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42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43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44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9" name="Group 145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2620" name="AutoShape 146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AutoShape 147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2" name="Rectangle 148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3" name="Group 149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2624" name="AutoShape 150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AutoShape 151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6" name="Rectangle 152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Rectangle 153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8" name="Group 154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2629" name="AutoShape 155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AutoShape 156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1" name="Freeform 157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2" name="Group 158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2633" name="AutoShape 159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AutoShape 160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5" name="Rectangle 161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162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163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64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65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AutoShape 166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AutoShape 167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168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Oval 169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Oval 170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71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6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2647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8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9" name="Group 175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2650" name="Freeform 176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Rectangle 177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78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79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Rectangle 180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181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2656" name="AutoShape 182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183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184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9" name="Group 185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2660" name="AutoShape 186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AutoShape 187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2" name="Rectangle 188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Rectangle 189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4" name="Group 190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2665" name="AutoShape 191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AutoShape 192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7" name="Freeform 193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8" name="Group 194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2669" name="AutoShape 195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AutoShape 196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1" name="Rectangle 197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198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199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Oval 200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01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AutoShape 202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AutoShape 203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Oval 204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Oval 205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206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Rectangle 207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Group 208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2683" name="Freeform 209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Rectangle 210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11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12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Rectangle 213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14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2689" name="AutoShape 215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16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17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2" name="Group 218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2693" name="AutoShape 219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AutoShape 220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5" name="Rectangle 221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222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7" name="Group 223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2698" name="AutoShape 224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AutoShape 225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0" name="Freeform 226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1" name="Group 227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2702" name="AutoShape 228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AutoShape 229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4" name="Rectangle 230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31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32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Oval 233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34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AutoShape 235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AutoShape 236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Oval 237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Oval 238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Oval 239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Rectangle 240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5" name="Group 241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2716" name="Freeform 242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Rectangle 243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44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45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246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247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2722" name="AutoShape 248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249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250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251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2726" name="AutoShape 252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AutoShape 253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8" name="Rectangle 254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Rectangle 255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0" name="Group 256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2731" name="AutoShape 257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AutoShape 258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3" name="Freeform 259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4" name="Group 260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2735" name="AutoShape 261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AutoShape 262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7" name="Rectangle 263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64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65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Oval 266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67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AutoShape 268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AutoShape 269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Oval 270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Oval 271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Oval 272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273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274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2749" name="Freeform 275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276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77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78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Rectangle 279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4" name="Group 280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2755" name="AutoShape 281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AutoShape 282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7" name="Rectangle 283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8" name="Group 284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2759" name="AutoShape 285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AutoShape 286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1" name="Rectangle 287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Rectangle 288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3" name="Group 289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2764" name="AutoShape 290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AutoShape 291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6" name="Freeform 292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7" name="Group 293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2768" name="AutoShape 294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AutoShape 295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0" name="Rectangle 296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97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98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Oval 299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300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AutoShape 301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AutoShape 302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Oval 303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Oval 304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Oval 305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Rectangle 306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1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2782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7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2788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0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1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2792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4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6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2797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9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0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2801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3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4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2815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6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7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2818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9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BBAAEDD-0746-4A61-925C-FFB802E31E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4CAF47C-1A9E-437B-88CC-FA2BD591DD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3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5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53"/>
          <p:cNvSpPr/>
          <p:nvPr/>
        </p:nvSpPr>
        <p:spPr>
          <a:xfrm>
            <a:off x="67057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54"/>
          <p:cNvSpPr/>
          <p:nvPr/>
        </p:nvSpPr>
        <p:spPr>
          <a:xfrm>
            <a:off x="74473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55"/>
          <p:cNvSpPr/>
          <p:nvPr/>
        </p:nvSpPr>
        <p:spPr>
          <a:xfrm>
            <a:off x="176220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56"/>
          <p:cNvSpPr/>
          <p:nvPr/>
        </p:nvSpPr>
        <p:spPr>
          <a:xfrm>
            <a:off x="2214360" y="564516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57"/>
          <p:cNvSpPr/>
          <p:nvPr/>
        </p:nvSpPr>
        <p:spPr>
          <a:xfrm>
            <a:off x="259560" y="605160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59"/>
          <p:cNvSpPr/>
          <p:nvPr/>
        </p:nvSpPr>
        <p:spPr>
          <a:xfrm>
            <a:off x="2928960" y="4683240"/>
            <a:ext cx="706320" cy="117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Group 68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2844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7" name="Group 72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2848" name="Freeform 73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74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0" name="Line 75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76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Group 77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2853" name="Freeform 78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79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80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81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Rectangle 82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83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2859" name="AutoShape 84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85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86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2" name="Group 87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2863" name="AutoShape 88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AutoShape 89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5" name="Rectangle 90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Rectangle 91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7" name="Group 92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2868" name="AutoShape 93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AutoShape 94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0" name="Freeform 95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1" name="Group 96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2872" name="AutoShape 97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AutoShape 98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4" name="Rectangle 99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00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01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Oval 102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103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AutoShape 104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AutoShape 105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Oval 106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Oval 107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Oval 108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Rectangle 109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110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2886" name="Freeform 111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Rectangle 112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13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14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115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16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2892" name="AutoShape 117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18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19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5" name="Group 120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2896" name="AutoShape 121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AutoShape 122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8" name="Rectangle 123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Rectangle 124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0" name="Group 125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2901" name="AutoShape 126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AutoShape 127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3" name="Freeform 128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4" name="Group 129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2905" name="AutoShape 130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AutoShape 131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7" name="Rectangle 132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33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34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Oval 135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136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AutoShape 137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AutoShape 138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Oval 139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Oval 140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Oval 141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Rectangle 142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Group 143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2919" name="Freeform 144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Rectangle 145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146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147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Rectangle 148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149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2925" name="AutoShape 150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151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152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8" name="Group 153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2929" name="AutoShape 154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AutoShape 155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1" name="Rectangle 156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Rectangle 157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3" name="Group 158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2934" name="AutoShape 159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AutoShape 160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6" name="Freeform 161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7" name="Group 162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2938" name="AutoShape 163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AutoShape 164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0" name="Rectangle 165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166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167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Oval 168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169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AutoShape 170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AutoShape 171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172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173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Oval 174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Rectangle 175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Group 176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2952" name="Freeform 177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Rectangle 178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179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80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Rectangle 181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7" name="Group 182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2958" name="AutoShape 183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AutoShape 184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0" name="Rectangle 185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1" name="Group 186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2962" name="AutoShape 187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AutoShape 188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4" name="Rectangle 189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Rectangle 190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6" name="Group 191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2967" name="AutoShape 192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AutoShape 193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9" name="Freeform 194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0" name="Group 195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2971" name="AutoShape 196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AutoShape 197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3" name="Rectangle 198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199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200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Oval 201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202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AutoShape 203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AutoShape 204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Oval 205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Oval 206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207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Rectangle 208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Group 209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2985" name="Freeform 210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Rectangle 211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12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13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214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Group 215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2991" name="AutoShape 216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AutoShape 217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3" name="Rectangle 218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4" name="Group 219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2995" name="AutoShape 220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AutoShape 221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7" name="Rectangle 222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Rectangle 223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9" name="Group 224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000" name="AutoShape 225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AutoShape 226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2" name="Freeform 227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3" name="Group 228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004" name="AutoShape 229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AutoShape 230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6" name="Rectangle 231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232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233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Oval 234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235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AutoShape 236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AutoShape 237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Oval 238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Oval 239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Oval 240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241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7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4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025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8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029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1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3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034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5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6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037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2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043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5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6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047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9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1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052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4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5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056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8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9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070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1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2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073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4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5" name="Line 95"/>
          <p:cNvSpPr/>
          <p:nvPr/>
        </p:nvSpPr>
        <p:spPr>
          <a:xfrm>
            <a:off x="659124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3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084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7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088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0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2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093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4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5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096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7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8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099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0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4E81E24-4499-44FE-B825-157B8087CB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5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Group 308"/>
          <p:cNvGrpSpPr/>
          <p:nvPr/>
        </p:nvGrpSpPr>
        <p:grpSpPr>
          <a:xfrm>
            <a:off x="6719760" y="4941720"/>
            <a:ext cx="1859760" cy="810720"/>
            <a:chOff x="6719760" y="4941720"/>
            <a:chExt cx="1859760" cy="810720"/>
          </a:xfrm>
        </p:grpSpPr>
        <p:sp>
          <p:nvSpPr>
            <p:cNvPr id="3109" name="Rectangle 307"/>
            <p:cNvSpPr/>
            <p:nvPr/>
          </p:nvSpPr>
          <p:spPr>
            <a:xfrm>
              <a:off x="671976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Text Box 97"/>
            <p:cNvSpPr/>
            <p:nvPr/>
          </p:nvSpPr>
          <p:spPr>
            <a:xfrm>
              <a:off x="726660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1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4" name="Group 9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3125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8" name="Group 9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3129" name="Freeform 9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1" name="Line 9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9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3" name="Group 100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3134" name="Freeform 101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Rectangle 102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103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104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Rectangle 105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06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3140" name="AutoShape 107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08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09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Group 110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3144" name="AutoShape 111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AutoShape 112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6" name="Rectangle 113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Rectangle 114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8" name="Group 115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3149" name="AutoShape 116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AutoShape 117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1" name="Freeform 118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2" name="Group 119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3153" name="AutoShape 120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AutoShape 121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5" name="Rectangle 122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123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124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Oval 125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126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AutoShape 127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AutoShape 128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Oval 129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Oval 130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Oval 131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Rectangle 132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6" name="Group 133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3167" name="Freeform 134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35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136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137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Rectangle 138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139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3173" name="AutoShape 140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141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142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6" name="Group 143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3177" name="AutoShape 144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AutoShape 145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9" name="Rectangle 146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147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1" name="Group 148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3182" name="AutoShape 149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AutoShape 150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4" name="Freeform 151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5" name="Group 152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3186" name="AutoShape 153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AutoShape 154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8" name="Rectangle 155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156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157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Oval 158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59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AutoShape 160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AutoShape 161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Oval 162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Oval 163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Oval 164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Rectangle 165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9" name="Group 166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3200" name="Freeform 167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68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169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170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Rectangle 171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172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3206" name="AutoShape 173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174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175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9" name="Group 176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3210" name="AutoShape 177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AutoShape 178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2" name="Rectangle 179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Rectangle 180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4" name="Group 181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3215" name="AutoShape 182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AutoShape 183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7" name="Freeform 184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8" name="Group 185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3219" name="AutoShape 186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AutoShape 187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1" name="Rectangle 188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189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190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Oval 191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192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AutoShape 193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AutoShape 194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Oval 195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Oval 196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Oval 197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Rectangle 198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Group 199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3233" name="Freeform 200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Rectangle 201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202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203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Rectangle 204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205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3239" name="AutoShape 206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207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208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2" name="Group 209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3243" name="AutoShape 210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AutoShape 211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5" name="Rectangle 212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Rectangle 213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7" name="Group 214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3248" name="AutoShape 215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AutoShape 216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Freeform 217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1" name="Group 218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3252" name="AutoShape 219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AutoShape 220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4" name="Rectangle 221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222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223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224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225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AutoShape 226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AutoShape 227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228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229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Oval 230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Rectangle 231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5" name="Group 232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3266" name="Freeform 233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Rectangle 234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235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236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Rectangle 237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1" name="Group 238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3272" name="AutoShape 239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AutoShape 240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4" name="Rectangle 241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5" name="Group 242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3276" name="AutoShape 243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AutoShape 244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8" name="Rectangle 245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Rectangle 246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0" name="Group 247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281" name="AutoShape 248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AutoShape 249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3" name="Freeform 250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251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285" name="AutoShape 252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253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254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255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256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Oval 257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258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AutoShape 259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AutoShape 260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Oval 261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Oval 262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Oval 263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Rectangle 264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8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299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4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305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7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8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309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1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3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314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6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318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A1C68CD-2119-4C35-AF46-115FB983C3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3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509760" y="129060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6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Rectangle 4"/>
          <p:cNvSpPr/>
          <p:nvPr/>
        </p:nvSpPr>
        <p:spPr>
          <a:xfrm>
            <a:off x="506520" y="3057480"/>
            <a:ext cx="4459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rate to browsers over access link 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Rectangle 4"/>
          <p:cNvSpPr/>
          <p:nvPr/>
        </p:nvSpPr>
        <p:spPr>
          <a:xfrm>
            <a:off x="538200" y="4557600"/>
            <a:ext cx="44593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8" name="Group 7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3349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2" name="Group 7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3353" name="Freeform 7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7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5" name="Line 7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Line 7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Group 80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3358" name="Freeform 81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Rectangle 82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83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84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Rectangle 85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86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3364" name="AutoShape 87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88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89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7" name="Group 90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3368" name="AutoShape 91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AutoShape 92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0" name="Rectangle 93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Rectangle 94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2" name="Group 95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3373" name="AutoShape 96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AutoShape 97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5" name="Freeform 98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6" name="Group 99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3377" name="AutoShape 100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AutoShape 101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9" name="Rectangle 102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03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04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Oval 105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106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AutoShape 107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AutoShape 108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Oval 109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Oval 110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Oval 111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Rectangle 112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0" name="Group 113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3391" name="Freeform 114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115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116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117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Rectangle 118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19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3397" name="AutoShape 120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121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122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0" name="Group 123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3401" name="AutoShape 124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AutoShape 125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3" name="Rectangle 126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Rectangle 127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5" name="Group 128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3406" name="AutoShape 129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AutoShape 130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8" name="Freeform 131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9" name="Group 132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3410" name="AutoShape 133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AutoShape 134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2" name="Rectangle 135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36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37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Oval 138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139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AutoShape 140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AutoShape 141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Oval 142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Oval 143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Oval 144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Rectangle 145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Group 146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3424" name="Freeform 147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148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149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150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Rectangle 151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152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3430" name="AutoShape 153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154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155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3" name="Group 156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3434" name="AutoShape 157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AutoShape 158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6" name="Rectangle 159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160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8" name="Group 161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3439" name="AutoShape 162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AutoShape 163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1" name="Freeform 164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2" name="Group 165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3443" name="AutoShape 166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AutoShape 167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5" name="Rectangle 168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69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70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Oval 171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72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AutoShape 173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AutoShape 174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Oval 175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176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Oval 177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Rectangle 178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6" name="Group 179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3457" name="Freeform 180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Rectangle 181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182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183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Rectangle 184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2" name="Group 185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3463" name="AutoShape 186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AutoShape 187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5" name="Rectangle 188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6" name="Group 189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3467" name="AutoShape 190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AutoShape 191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9" name="Rectangle 192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Rectangle 193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1" name="Group 194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3472" name="AutoShape 195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AutoShape 196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4" name="Freeform 197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5" name="Group 198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3476" name="AutoShape 199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AutoShape 200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8" name="Rectangle 201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202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203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Oval 204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205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AutoShape 206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AutoShape 207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Oval 208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Oval 209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Oval 210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Rectangle 211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9" name="Group 212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3490" name="Freeform 213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Rectangle 214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215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216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Rectangle 217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5" name="Group 218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3496" name="AutoShape 219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AutoShape 220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8" name="Rectangle 221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9" name="Group 222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3500" name="AutoShape 223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AutoShape 224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2" name="Rectangle 225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226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4" name="Group 227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505" name="AutoShape 228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AutoShape 229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7" name="Freeform 230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8" name="Group 231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509" name="AutoShape 232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AutoShape 233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1" name="Rectangle 234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235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236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Oval 237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238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AutoShape 239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AutoShape 240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Oval 241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Oval 242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Oval 243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Rectangle 244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2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530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3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534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6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539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0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542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3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545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6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Group 308"/>
          <p:cNvGrpSpPr/>
          <p:nvPr/>
        </p:nvGrpSpPr>
        <p:grpSpPr>
          <a:xfrm>
            <a:off x="6719760" y="4941720"/>
            <a:ext cx="1859760" cy="810720"/>
            <a:chOff x="6719760" y="4941720"/>
            <a:chExt cx="1859760" cy="810720"/>
          </a:xfrm>
        </p:grpSpPr>
        <p:sp>
          <p:nvSpPr>
            <p:cNvPr id="3548" name="Rectangle 307"/>
            <p:cNvSpPr/>
            <p:nvPr/>
          </p:nvSpPr>
          <p:spPr>
            <a:xfrm>
              <a:off x="671976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Text Box 97"/>
            <p:cNvSpPr/>
            <p:nvPr/>
          </p:nvSpPr>
          <p:spPr>
            <a:xfrm>
              <a:off x="726660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551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557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9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0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561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5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566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8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9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570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2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EED7F5D-777D-4D07-B211-E7A1E73027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7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0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91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3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2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603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604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9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610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2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3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614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6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8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619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1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2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623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5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6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637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8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4458434-C678-492A-83A9-A000858C7B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F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4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5D0738E-2CB4-4EF0-BACC-C1E1B5D9E6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7" name="Picture 48" descr="underline_base"/>
          <p:cNvPicPr/>
          <p:nvPr/>
        </p:nvPicPr>
        <p:blipFill>
          <a:blip r:embed="rId1"/>
          <a:stretch/>
        </p:blipFill>
        <p:spPr>
          <a:xfrm>
            <a:off x="414360" y="8352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3648" name="Freeform 46"/>
          <p:cNvSpPr/>
          <p:nvPr/>
        </p:nvSpPr>
        <p:spPr>
          <a:xfrm>
            <a:off x="6161040" y="2220840"/>
            <a:ext cx="1100160" cy="28260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693" h="178">
                <a:moveTo>
                  <a:pt x="0" y="116"/>
                </a:moveTo>
                <a:lnTo>
                  <a:pt x="247" y="0"/>
                </a:lnTo>
                <a:lnTo>
                  <a:pt x="693" y="0"/>
                </a:lnTo>
                <a:lnTo>
                  <a:pt x="137" y="178"/>
                </a:lnTo>
                <a:lnTo>
                  <a:pt x="0" y="11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Freeform 43"/>
          <p:cNvSpPr/>
          <p:nvPr/>
        </p:nvSpPr>
        <p:spPr>
          <a:xfrm>
            <a:off x="2602080" y="2220840"/>
            <a:ext cx="1784160" cy="282600"/>
          </a:xfrm>
          <a:custGeom>
            <a:avLst/>
            <a:gdLst>
              <a:gd name="textAreaLeft" fmla="*/ 0 w 1784160"/>
              <a:gd name="textAreaRight" fmla="*/ 1784520 w 1784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124" h="178">
                <a:moveTo>
                  <a:pt x="0" y="178"/>
                </a:moveTo>
                <a:lnTo>
                  <a:pt x="41" y="7"/>
                </a:lnTo>
                <a:lnTo>
                  <a:pt x="1124" y="0"/>
                </a:lnTo>
                <a:lnTo>
                  <a:pt x="247" y="171"/>
                </a:lnTo>
                <a:lnTo>
                  <a:pt x="0" y="17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380880" y="2062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FTP: the file transfer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51" name="Text Box 16"/>
          <p:cNvSpPr/>
          <p:nvPr/>
        </p:nvSpPr>
        <p:spPr>
          <a:xfrm>
            <a:off x="4645080" y="125568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il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2" name="Group 17"/>
          <p:cNvGrpSpPr/>
          <p:nvPr/>
        </p:nvGrpSpPr>
        <p:grpSpPr>
          <a:xfrm>
            <a:off x="6539400" y="1411200"/>
            <a:ext cx="744480" cy="828720"/>
            <a:chOff x="6539400" y="1411200"/>
            <a:chExt cx="744480" cy="828720"/>
          </a:xfrm>
        </p:grpSpPr>
        <p:sp>
          <p:nvSpPr>
            <p:cNvPr id="3653" name="Rectangle 18"/>
            <p:cNvSpPr/>
            <p:nvPr/>
          </p:nvSpPr>
          <p:spPr>
            <a:xfrm>
              <a:off x="6562440" y="141120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Text Box 19"/>
            <p:cNvSpPr/>
            <p:nvPr/>
          </p:nvSpPr>
          <p:spPr>
            <a:xfrm>
              <a:off x="6539400" y="1533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Group 20"/>
          <p:cNvGrpSpPr/>
          <p:nvPr/>
        </p:nvGrpSpPr>
        <p:grpSpPr>
          <a:xfrm>
            <a:off x="2583000" y="1401840"/>
            <a:ext cx="1788480" cy="851040"/>
            <a:chOff x="2583000" y="1401840"/>
            <a:chExt cx="1788480" cy="851040"/>
          </a:xfrm>
        </p:grpSpPr>
        <p:sp>
          <p:nvSpPr>
            <p:cNvPr id="3656" name="Rectangle 21"/>
            <p:cNvSpPr/>
            <p:nvPr/>
          </p:nvSpPr>
          <p:spPr>
            <a:xfrm>
              <a:off x="3666960" y="1401840"/>
              <a:ext cx="70452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Rectangle 22"/>
            <p:cNvSpPr/>
            <p:nvPr/>
          </p:nvSpPr>
          <p:spPr>
            <a:xfrm>
              <a:off x="2676240" y="1411560"/>
              <a:ext cx="96156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Text Box 23"/>
            <p:cNvSpPr/>
            <p:nvPr/>
          </p:nvSpPr>
          <p:spPr>
            <a:xfrm>
              <a:off x="2583000" y="1428840"/>
              <a:ext cx="117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Text Box 24"/>
            <p:cNvSpPr/>
            <p:nvPr/>
          </p:nvSpPr>
          <p:spPr>
            <a:xfrm>
              <a:off x="3687840" y="152424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0" name="Text Box 32"/>
          <p:cNvSpPr/>
          <p:nvPr/>
        </p:nvSpPr>
        <p:spPr>
          <a:xfrm>
            <a:off x="3881520" y="2522520"/>
            <a:ext cx="107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Line 33"/>
          <p:cNvSpPr/>
          <p:nvPr/>
        </p:nvSpPr>
        <p:spPr>
          <a:xfrm>
            <a:off x="3219480" y="2239920"/>
            <a:ext cx="32400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Line 34"/>
          <p:cNvSpPr/>
          <p:nvPr/>
        </p:nvSpPr>
        <p:spPr>
          <a:xfrm flipH="1">
            <a:off x="3714840" y="22305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Text Box 41"/>
          <p:cNvSpPr/>
          <p:nvPr/>
        </p:nvSpPr>
        <p:spPr>
          <a:xfrm>
            <a:off x="7161120" y="2333520"/>
            <a:ext cx="14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Line 42"/>
          <p:cNvSpPr/>
          <p:nvPr/>
        </p:nvSpPr>
        <p:spPr>
          <a:xfrm>
            <a:off x="6915240" y="2239920"/>
            <a:ext cx="0" cy="428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5" name="Picture 43" descr="Alice"/>
          <p:cNvPicPr/>
          <p:nvPr/>
        </p:nvPicPr>
        <p:blipFill>
          <a:blip r:embed="rId2"/>
          <a:stretch/>
        </p:blipFill>
        <p:spPr>
          <a:xfrm>
            <a:off x="1490760" y="145404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3666" name="Text Box 44"/>
          <p:cNvSpPr/>
          <p:nvPr/>
        </p:nvSpPr>
        <p:spPr>
          <a:xfrm>
            <a:off x="1379520" y="216216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Line 45"/>
          <p:cNvSpPr/>
          <p:nvPr/>
        </p:nvSpPr>
        <p:spPr>
          <a:xfrm>
            <a:off x="2028960" y="184932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AutoShape 327"/>
          <p:cNvSpPr/>
          <p:nvPr/>
        </p:nvSpPr>
        <p:spPr>
          <a:xfrm>
            <a:off x="3333600" y="2673360"/>
            <a:ext cx="570240" cy="428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AutoShape 327"/>
          <p:cNvSpPr/>
          <p:nvPr/>
        </p:nvSpPr>
        <p:spPr>
          <a:xfrm>
            <a:off x="6665760" y="2629080"/>
            <a:ext cx="570240" cy="42840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3"/>
          <p:cNvSpPr/>
          <p:nvPr/>
        </p:nvSpPr>
        <p:spPr>
          <a:xfrm>
            <a:off x="744480" y="3751200"/>
            <a:ext cx="80136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file to/from remot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cli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side that initiates transfer (either to/from rem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remot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tp: RFC 9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tp server: port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Line 49"/>
          <p:cNvSpPr/>
          <p:nvPr/>
        </p:nvSpPr>
        <p:spPr>
          <a:xfrm>
            <a:off x="4365720" y="1714680"/>
            <a:ext cx="218736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2" name="Group 51"/>
          <p:cNvGrpSpPr/>
          <p:nvPr/>
        </p:nvGrpSpPr>
        <p:grpSpPr>
          <a:xfrm>
            <a:off x="6008760" y="2327400"/>
            <a:ext cx="476280" cy="749160"/>
            <a:chOff x="6008760" y="2327400"/>
            <a:chExt cx="476280" cy="749160"/>
          </a:xfrm>
        </p:grpSpPr>
        <p:sp>
          <p:nvSpPr>
            <p:cNvPr id="3673" name="Freeform 52"/>
            <p:cNvSpPr/>
            <p:nvPr/>
          </p:nvSpPr>
          <p:spPr>
            <a:xfrm>
              <a:off x="6385320" y="2328480"/>
              <a:ext cx="94320" cy="714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714960"/>
                <a:gd name="textAreaBottom" fmla="*/ 715320 h 7149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Rectangle 53"/>
            <p:cNvSpPr/>
            <p:nvPr/>
          </p:nvSpPr>
          <p:spPr>
            <a:xfrm>
              <a:off x="6031080" y="2327400"/>
              <a:ext cx="348840" cy="714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54"/>
            <p:cNvSpPr/>
            <p:nvPr/>
          </p:nvSpPr>
          <p:spPr>
            <a:xfrm>
              <a:off x="6403320" y="2371320"/>
              <a:ext cx="56160" cy="6613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61320"/>
                <a:gd name="textAreaBottom" fmla="*/ 661680 h 6613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5"/>
            <p:cNvSpPr/>
            <p:nvPr/>
          </p:nvSpPr>
          <p:spPr>
            <a:xfrm>
              <a:off x="6390720" y="2706120"/>
              <a:ext cx="87840" cy="590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Rectangle 56"/>
            <p:cNvSpPr/>
            <p:nvPr/>
          </p:nvSpPr>
          <p:spPr>
            <a:xfrm>
              <a:off x="6032160" y="2409840"/>
              <a:ext cx="2001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8" name="Group 57"/>
            <p:cNvGrpSpPr/>
            <p:nvPr/>
          </p:nvGrpSpPr>
          <p:grpSpPr>
            <a:xfrm>
              <a:off x="6212160" y="2401920"/>
              <a:ext cx="194040" cy="45000"/>
              <a:chOff x="6212160" y="2401920"/>
              <a:chExt cx="194040" cy="45000"/>
            </a:xfrm>
          </p:grpSpPr>
          <p:sp>
            <p:nvSpPr>
              <p:cNvPr id="3679" name="AutoShape 58"/>
              <p:cNvSpPr/>
              <p:nvPr/>
            </p:nvSpPr>
            <p:spPr>
              <a:xfrm>
                <a:off x="6212160" y="2401920"/>
                <a:ext cx="1940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59"/>
              <p:cNvSpPr/>
              <p:nvPr/>
            </p:nvSpPr>
            <p:spPr>
              <a:xfrm>
                <a:off x="6216840" y="2406240"/>
                <a:ext cx="181440" cy="3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1" name="Rectangle 60"/>
            <p:cNvSpPr/>
            <p:nvPr/>
          </p:nvSpPr>
          <p:spPr>
            <a:xfrm>
              <a:off x="6037200" y="2511360"/>
              <a:ext cx="1983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2" name="Group 61"/>
            <p:cNvGrpSpPr/>
            <p:nvPr/>
          </p:nvGrpSpPr>
          <p:grpSpPr>
            <a:xfrm>
              <a:off x="6211440" y="2503800"/>
              <a:ext cx="194040" cy="41760"/>
              <a:chOff x="6211440" y="2503800"/>
              <a:chExt cx="194040" cy="41760"/>
            </a:xfrm>
          </p:grpSpPr>
          <p:sp>
            <p:nvSpPr>
              <p:cNvPr id="3683" name="AutoShape 62"/>
              <p:cNvSpPr/>
              <p:nvPr/>
            </p:nvSpPr>
            <p:spPr>
              <a:xfrm>
                <a:off x="6211440" y="2503800"/>
                <a:ext cx="1940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AutoShape 63"/>
              <p:cNvSpPr/>
              <p:nvPr/>
            </p:nvSpPr>
            <p:spPr>
              <a:xfrm>
                <a:off x="6216120" y="2508480"/>
                <a:ext cx="18468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Rectangle 64"/>
            <p:cNvSpPr/>
            <p:nvPr/>
          </p:nvSpPr>
          <p:spPr>
            <a:xfrm>
              <a:off x="6033960" y="2617920"/>
              <a:ext cx="2001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Rectangle 65"/>
            <p:cNvSpPr/>
            <p:nvPr/>
          </p:nvSpPr>
          <p:spPr>
            <a:xfrm>
              <a:off x="6038640" y="2711520"/>
              <a:ext cx="1983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7" name="Group 66"/>
            <p:cNvGrpSpPr/>
            <p:nvPr/>
          </p:nvGrpSpPr>
          <p:grpSpPr>
            <a:xfrm>
              <a:off x="6207480" y="2702160"/>
              <a:ext cx="194400" cy="47160"/>
              <a:chOff x="6207480" y="2702160"/>
              <a:chExt cx="194400" cy="47160"/>
            </a:xfrm>
          </p:grpSpPr>
          <p:sp>
            <p:nvSpPr>
              <p:cNvPr id="3688" name="AutoShape 67"/>
              <p:cNvSpPr/>
              <p:nvPr/>
            </p:nvSpPr>
            <p:spPr>
              <a:xfrm>
                <a:off x="6207480" y="2702160"/>
                <a:ext cx="194400" cy="47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AutoShape 68"/>
              <p:cNvSpPr/>
              <p:nvPr/>
            </p:nvSpPr>
            <p:spPr>
              <a:xfrm>
                <a:off x="6212160" y="2706840"/>
                <a:ext cx="185040" cy="3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0" name="Freeform 69"/>
            <p:cNvSpPr/>
            <p:nvPr/>
          </p:nvSpPr>
          <p:spPr>
            <a:xfrm>
              <a:off x="6392160" y="2616480"/>
              <a:ext cx="87480" cy="58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1" name="Group 70"/>
            <p:cNvGrpSpPr/>
            <p:nvPr/>
          </p:nvGrpSpPr>
          <p:grpSpPr>
            <a:xfrm>
              <a:off x="6208920" y="2608200"/>
              <a:ext cx="194400" cy="43200"/>
              <a:chOff x="6208920" y="2608200"/>
              <a:chExt cx="194400" cy="43200"/>
            </a:xfrm>
          </p:grpSpPr>
          <p:sp>
            <p:nvSpPr>
              <p:cNvPr id="3692" name="AutoShape 71"/>
              <p:cNvSpPr/>
              <p:nvPr/>
            </p:nvSpPr>
            <p:spPr>
              <a:xfrm>
                <a:off x="6208920" y="2608200"/>
                <a:ext cx="19440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AutoShape 72"/>
              <p:cNvSpPr/>
              <p:nvPr/>
            </p:nvSpPr>
            <p:spPr>
              <a:xfrm>
                <a:off x="6213600" y="2612880"/>
                <a:ext cx="18504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4" name="Rectangle 73"/>
            <p:cNvSpPr/>
            <p:nvPr/>
          </p:nvSpPr>
          <p:spPr>
            <a:xfrm>
              <a:off x="6380280" y="2327400"/>
              <a:ext cx="22320" cy="715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74"/>
            <p:cNvSpPr/>
            <p:nvPr/>
          </p:nvSpPr>
          <p:spPr>
            <a:xfrm>
              <a:off x="6400080" y="25081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75"/>
            <p:cNvSpPr/>
            <p:nvPr/>
          </p:nvSpPr>
          <p:spPr>
            <a:xfrm>
              <a:off x="6401160" y="2405880"/>
              <a:ext cx="81360" cy="7488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Oval 76"/>
            <p:cNvSpPr/>
            <p:nvPr/>
          </p:nvSpPr>
          <p:spPr>
            <a:xfrm>
              <a:off x="6469200" y="3009960"/>
              <a:ext cx="1584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77"/>
            <p:cNvSpPr/>
            <p:nvPr/>
          </p:nvSpPr>
          <p:spPr>
            <a:xfrm>
              <a:off x="6396840" y="3010680"/>
              <a:ext cx="81720" cy="622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AutoShape 78"/>
            <p:cNvSpPr/>
            <p:nvPr/>
          </p:nvSpPr>
          <p:spPr>
            <a:xfrm>
              <a:off x="6008760" y="3030840"/>
              <a:ext cx="399960" cy="45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AutoShape 79"/>
            <p:cNvSpPr/>
            <p:nvPr/>
          </p:nvSpPr>
          <p:spPr>
            <a:xfrm>
              <a:off x="6031080" y="3041640"/>
              <a:ext cx="357120" cy="2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Oval 80"/>
            <p:cNvSpPr/>
            <p:nvPr/>
          </p:nvSpPr>
          <p:spPr>
            <a:xfrm>
              <a:off x="6064200" y="2938320"/>
              <a:ext cx="5400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Oval 81"/>
            <p:cNvSpPr/>
            <p:nvPr/>
          </p:nvSpPr>
          <p:spPr>
            <a:xfrm>
              <a:off x="6124680" y="2938320"/>
              <a:ext cx="54000" cy="44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Oval 82"/>
            <p:cNvSpPr/>
            <p:nvPr/>
          </p:nvSpPr>
          <p:spPr>
            <a:xfrm>
              <a:off x="6183360" y="2938320"/>
              <a:ext cx="522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Rectangle 83"/>
            <p:cNvSpPr/>
            <p:nvPr/>
          </p:nvSpPr>
          <p:spPr>
            <a:xfrm>
              <a:off x="6316560" y="2766960"/>
              <a:ext cx="28440" cy="2379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5" name="Group 84"/>
          <p:cNvGrpSpPr/>
          <p:nvPr/>
        </p:nvGrpSpPr>
        <p:grpSpPr>
          <a:xfrm>
            <a:off x="2220840" y="2352600"/>
            <a:ext cx="830160" cy="849240"/>
            <a:chOff x="2220840" y="2352600"/>
            <a:chExt cx="830160" cy="849240"/>
          </a:xfrm>
        </p:grpSpPr>
        <p:pic>
          <p:nvPicPr>
            <p:cNvPr id="3706" name="Picture 8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220840" y="2352600"/>
              <a:ext cx="8301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7" name="Freeform 86"/>
            <p:cNvSpPr/>
            <p:nvPr/>
          </p:nvSpPr>
          <p:spPr>
            <a:xfrm flipH="1">
              <a:off x="2573640" y="2433960"/>
              <a:ext cx="403560" cy="388800"/>
            </a:xfrm>
            <a:custGeom>
              <a:avLst/>
              <a:gdLst>
                <a:gd name="textAreaLeft" fmla="*/ -360 w 403560"/>
                <a:gd name="textAreaRight" fmla="*/ 403560 w 4035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AC0E108-9E8A-45EC-A743-447C2579D3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336600" y="163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TP: separate control, data connection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399600" y="1504800"/>
            <a:ext cx="431820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 client contacts FTP server at port 21, using TCP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authorized over control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browses remote directory, sends commands over control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server receives file transfer command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pe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data connection (for file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fter transferring one file, server closes data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2" name="Text Box 15"/>
          <p:cNvSpPr/>
          <p:nvPr/>
        </p:nvSpPr>
        <p:spPr>
          <a:xfrm>
            <a:off x="4841280" y="2533680"/>
            <a:ext cx="712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Text Box 16"/>
          <p:cNvSpPr/>
          <p:nvPr/>
        </p:nvSpPr>
        <p:spPr>
          <a:xfrm>
            <a:off x="7858800" y="2543040"/>
            <a:ext cx="814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Line 17"/>
          <p:cNvSpPr/>
          <p:nvPr/>
        </p:nvSpPr>
        <p:spPr>
          <a:xfrm>
            <a:off x="5508720" y="2011320"/>
            <a:ext cx="256212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Line 18"/>
          <p:cNvSpPr/>
          <p:nvPr/>
        </p:nvSpPr>
        <p:spPr>
          <a:xfrm flipV="1">
            <a:off x="5527800" y="2325240"/>
            <a:ext cx="2562120" cy="972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Text Box 19"/>
          <p:cNvSpPr/>
          <p:nvPr/>
        </p:nvSpPr>
        <p:spPr>
          <a:xfrm>
            <a:off x="5580000" y="1473120"/>
            <a:ext cx="2409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CP control conn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erver port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Text Box 20"/>
          <p:cNvSpPr/>
          <p:nvPr/>
        </p:nvSpPr>
        <p:spPr>
          <a:xfrm>
            <a:off x="5554800" y="2400480"/>
            <a:ext cx="2409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CP data conn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erver port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4703760" y="3425760"/>
            <a:ext cx="406728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opens another TCP data connection to transfer anothe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connection: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ut of band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 server maintain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urrent directory, earlie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9" name="Picture 28" descr="underline_base"/>
          <p:cNvPicPr/>
          <p:nvPr/>
        </p:nvPicPr>
        <p:blipFill>
          <a:blip r:embed="rId1"/>
          <a:stretch/>
        </p:blipFill>
        <p:spPr>
          <a:xfrm>
            <a:off x="366840" y="8683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3720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32"/>
          <p:cNvGrpSpPr/>
          <p:nvPr/>
        </p:nvGrpSpPr>
        <p:grpSpPr>
          <a:xfrm>
            <a:off x="8129520" y="1674720"/>
            <a:ext cx="444240" cy="728640"/>
            <a:chOff x="8129520" y="1674720"/>
            <a:chExt cx="444240" cy="728640"/>
          </a:xfrm>
        </p:grpSpPr>
        <p:sp>
          <p:nvSpPr>
            <p:cNvPr id="3722" name="Freeform 33"/>
            <p:cNvSpPr/>
            <p:nvPr/>
          </p:nvSpPr>
          <p:spPr>
            <a:xfrm>
              <a:off x="8481600" y="1675800"/>
              <a:ext cx="88200" cy="695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34"/>
            <p:cNvSpPr/>
            <p:nvPr/>
          </p:nvSpPr>
          <p:spPr>
            <a:xfrm>
              <a:off x="8150040" y="1674720"/>
              <a:ext cx="326880" cy="6951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5"/>
            <p:cNvSpPr/>
            <p:nvPr/>
          </p:nvSpPr>
          <p:spPr>
            <a:xfrm>
              <a:off x="8498160" y="1717560"/>
              <a:ext cx="52560" cy="643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6"/>
            <p:cNvSpPr/>
            <p:nvPr/>
          </p:nvSpPr>
          <p:spPr>
            <a:xfrm>
              <a:off x="8486640" y="2043000"/>
              <a:ext cx="82080" cy="572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Rectangle 37"/>
            <p:cNvSpPr/>
            <p:nvPr/>
          </p:nvSpPr>
          <p:spPr>
            <a:xfrm>
              <a:off x="8151480" y="175536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7" name="Group 38"/>
            <p:cNvGrpSpPr/>
            <p:nvPr/>
          </p:nvGrpSpPr>
          <p:grpSpPr>
            <a:xfrm>
              <a:off x="8319600" y="1747440"/>
              <a:ext cx="181080" cy="43920"/>
              <a:chOff x="8319600" y="1747440"/>
              <a:chExt cx="181080" cy="43920"/>
            </a:xfrm>
          </p:grpSpPr>
          <p:sp>
            <p:nvSpPr>
              <p:cNvPr id="3728" name="AutoShape 39"/>
              <p:cNvSpPr/>
              <p:nvPr/>
            </p:nvSpPr>
            <p:spPr>
              <a:xfrm>
                <a:off x="8319600" y="1747440"/>
                <a:ext cx="18108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AutoShape 40"/>
              <p:cNvSpPr/>
              <p:nvPr/>
            </p:nvSpPr>
            <p:spPr>
              <a:xfrm>
                <a:off x="8324280" y="1752120"/>
                <a:ext cx="171720" cy="3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0" name="Rectangle 41"/>
            <p:cNvSpPr/>
            <p:nvPr/>
          </p:nvSpPr>
          <p:spPr>
            <a:xfrm>
              <a:off x="8156520" y="185400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1" name="Group 42"/>
            <p:cNvGrpSpPr/>
            <p:nvPr/>
          </p:nvGrpSpPr>
          <p:grpSpPr>
            <a:xfrm>
              <a:off x="8318880" y="1846440"/>
              <a:ext cx="181080" cy="40680"/>
              <a:chOff x="8318880" y="1846440"/>
              <a:chExt cx="181080" cy="40680"/>
            </a:xfrm>
          </p:grpSpPr>
          <p:sp>
            <p:nvSpPr>
              <p:cNvPr id="3732" name="AutoShape 43"/>
              <p:cNvSpPr/>
              <p:nvPr/>
            </p:nvSpPr>
            <p:spPr>
              <a:xfrm>
                <a:off x="8318880" y="1846440"/>
                <a:ext cx="1810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AutoShape 44"/>
              <p:cNvSpPr/>
              <p:nvPr/>
            </p:nvSpPr>
            <p:spPr>
              <a:xfrm>
                <a:off x="8323560" y="1850760"/>
                <a:ext cx="17172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Rectangle 45"/>
            <p:cNvSpPr/>
            <p:nvPr/>
          </p:nvSpPr>
          <p:spPr>
            <a:xfrm>
              <a:off x="8152920" y="195732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Rectangle 46"/>
            <p:cNvSpPr/>
            <p:nvPr/>
          </p:nvSpPr>
          <p:spPr>
            <a:xfrm>
              <a:off x="8156520" y="204804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47"/>
            <p:cNvGrpSpPr/>
            <p:nvPr/>
          </p:nvGrpSpPr>
          <p:grpSpPr>
            <a:xfrm>
              <a:off x="8315280" y="2039040"/>
              <a:ext cx="181440" cy="45720"/>
              <a:chOff x="8315280" y="2039040"/>
              <a:chExt cx="181440" cy="45720"/>
            </a:xfrm>
          </p:grpSpPr>
          <p:sp>
            <p:nvSpPr>
              <p:cNvPr id="3737" name="AutoShape 48"/>
              <p:cNvSpPr/>
              <p:nvPr/>
            </p:nvSpPr>
            <p:spPr>
              <a:xfrm>
                <a:off x="8315280" y="2039040"/>
                <a:ext cx="18144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AutoShape 49"/>
              <p:cNvSpPr/>
              <p:nvPr/>
            </p:nvSpPr>
            <p:spPr>
              <a:xfrm>
                <a:off x="8319960" y="2044080"/>
                <a:ext cx="172080" cy="3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9" name="Freeform 50"/>
            <p:cNvSpPr/>
            <p:nvPr/>
          </p:nvSpPr>
          <p:spPr>
            <a:xfrm>
              <a:off x="8487720" y="1955880"/>
              <a:ext cx="81720" cy="5688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0" name="Group 51"/>
            <p:cNvGrpSpPr/>
            <p:nvPr/>
          </p:nvGrpSpPr>
          <p:grpSpPr>
            <a:xfrm>
              <a:off x="8316360" y="1947600"/>
              <a:ext cx="181440" cy="42120"/>
              <a:chOff x="8316360" y="1947600"/>
              <a:chExt cx="181440" cy="42120"/>
            </a:xfrm>
          </p:grpSpPr>
          <p:sp>
            <p:nvSpPr>
              <p:cNvPr id="3741" name="AutoShape 52"/>
              <p:cNvSpPr/>
              <p:nvPr/>
            </p:nvSpPr>
            <p:spPr>
              <a:xfrm>
                <a:off x="8316360" y="1947600"/>
                <a:ext cx="181440" cy="42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AutoShape 53"/>
              <p:cNvSpPr/>
              <p:nvPr/>
            </p:nvSpPr>
            <p:spPr>
              <a:xfrm>
                <a:off x="8321040" y="1952280"/>
                <a:ext cx="17208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3" name="Rectangle 54"/>
            <p:cNvSpPr/>
            <p:nvPr/>
          </p:nvSpPr>
          <p:spPr>
            <a:xfrm>
              <a:off x="8475480" y="1674720"/>
              <a:ext cx="20520" cy="69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55"/>
            <p:cNvSpPr/>
            <p:nvPr/>
          </p:nvSpPr>
          <p:spPr>
            <a:xfrm>
              <a:off x="8495280" y="1850400"/>
              <a:ext cx="73800" cy="64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56"/>
            <p:cNvSpPr/>
            <p:nvPr/>
          </p:nvSpPr>
          <p:spPr>
            <a:xfrm>
              <a:off x="8496360" y="1751040"/>
              <a:ext cx="75960" cy="7272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Oval 57"/>
            <p:cNvSpPr/>
            <p:nvPr/>
          </p:nvSpPr>
          <p:spPr>
            <a:xfrm>
              <a:off x="8559720" y="2338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58"/>
            <p:cNvSpPr/>
            <p:nvPr/>
          </p:nvSpPr>
          <p:spPr>
            <a:xfrm>
              <a:off x="8492040" y="2339280"/>
              <a:ext cx="76320" cy="608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AutoShape 59"/>
            <p:cNvSpPr/>
            <p:nvPr/>
          </p:nvSpPr>
          <p:spPr>
            <a:xfrm>
              <a:off x="8129520" y="2359080"/>
              <a:ext cx="374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AutoShape 60"/>
            <p:cNvSpPr/>
            <p:nvPr/>
          </p:nvSpPr>
          <p:spPr>
            <a:xfrm>
              <a:off x="8150040" y="2368440"/>
              <a:ext cx="333720" cy="2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Oval 61"/>
            <p:cNvSpPr/>
            <p:nvPr/>
          </p:nvSpPr>
          <p:spPr>
            <a:xfrm>
              <a:off x="8181720" y="2268360"/>
              <a:ext cx="4932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Oval 62"/>
            <p:cNvSpPr/>
            <p:nvPr/>
          </p:nvSpPr>
          <p:spPr>
            <a:xfrm>
              <a:off x="8237520" y="2270160"/>
              <a:ext cx="4932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Oval 63"/>
            <p:cNvSpPr/>
            <p:nvPr/>
          </p:nvSpPr>
          <p:spPr>
            <a:xfrm>
              <a:off x="8292960" y="2268360"/>
              <a:ext cx="4932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Rectangle 64"/>
            <p:cNvSpPr/>
            <p:nvPr/>
          </p:nvSpPr>
          <p:spPr>
            <a:xfrm>
              <a:off x="8416800" y="2101680"/>
              <a:ext cx="27000" cy="2314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4" name="Group 65"/>
          <p:cNvGrpSpPr/>
          <p:nvPr/>
        </p:nvGrpSpPr>
        <p:grpSpPr>
          <a:xfrm>
            <a:off x="4655880" y="1665360"/>
            <a:ext cx="873000" cy="893520"/>
            <a:chOff x="4655880" y="1665360"/>
            <a:chExt cx="873000" cy="893520"/>
          </a:xfrm>
        </p:grpSpPr>
        <p:pic>
          <p:nvPicPr>
            <p:cNvPr id="3755" name="Picture 66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655880" y="1665360"/>
              <a:ext cx="87300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6" name="Freeform 67"/>
            <p:cNvSpPr/>
            <p:nvPr/>
          </p:nvSpPr>
          <p:spPr>
            <a:xfrm flipH="1">
              <a:off x="5027400" y="1750680"/>
              <a:ext cx="424440" cy="408960"/>
            </a:xfrm>
            <a:custGeom>
              <a:avLst/>
              <a:gdLst>
                <a:gd name="textAreaLeft" fmla="*/ -360 w 424440"/>
                <a:gd name="textAreaRight" fmla="*/ 424440 w 4244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D174219-94BC-480A-9A1B-88E9EF09A2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9" name="Picture 11" descr="underline_base"/>
          <p:cNvPicPr/>
          <p:nvPr/>
        </p:nvPicPr>
        <p:blipFill>
          <a:blip r:embed="rId1"/>
          <a:stretch/>
        </p:blipFill>
        <p:spPr>
          <a:xfrm>
            <a:off x="407880" y="892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336600" y="271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FTP commands, respons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533160" y="13334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ample command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t as ASCII text over control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urn list of file in current direct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R filena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ieves (gets)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 filena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res (puts) file onto remote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851000" y="13334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ample return co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us code and phrase (as in HTTP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5 Ca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 open data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1F49294-5C13-44E7-9D26-29D545BAE8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8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0CD5C8F-6542-41F5-B544-FC7CECBC12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3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4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775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6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777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5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7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788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789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790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5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796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7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8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9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800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1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2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4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805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7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8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809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0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1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2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823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8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829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0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1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2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833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4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5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7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838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1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842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3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4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5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856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1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862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3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4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5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866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7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8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0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871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2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3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4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875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6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7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9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890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5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906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1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922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7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9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940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2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943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5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946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8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949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950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1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2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4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955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956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7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8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0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961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962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3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4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6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967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968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9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0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2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973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974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5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6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979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980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1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78A893-0F7C-4417-BEEE-158C2FA9A5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93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95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710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2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732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8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9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750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755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760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3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764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6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769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773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778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82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87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91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96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800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806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810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2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815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819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824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828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833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837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9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842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846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851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855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860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861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73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4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875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876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88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9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91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94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5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97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900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2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3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904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6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907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2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913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5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917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9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922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5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926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940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5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946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8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9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950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2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955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959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1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973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5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6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7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3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84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97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9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0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1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7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1008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1021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1032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1045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1048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2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1059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5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1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85104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1073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23800" y="1116000"/>
            <a:ext cx="41911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76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1077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86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95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0270ED7-5EAB-4B37-943F-EC9AF193A4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8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989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990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5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996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8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9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4000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2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4005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8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4009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1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2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4023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8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4029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1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2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4033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5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4038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1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4042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4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4056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1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4062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4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4066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0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4071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3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4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4075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7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8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9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4090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5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4106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4122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7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4140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2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4143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5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4146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8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4149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4150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1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2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4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4155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4156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7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0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4161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4162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3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4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6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4167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4168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9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0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2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4173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4174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5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6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4179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4180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1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2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F9844E5-5206-46BF-B771-47C297D3DF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6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, F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72D62BD-F479-4560-B781-559160C694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1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4192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4193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4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5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4198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3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204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6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7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208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0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2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213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5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217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9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231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6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237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9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0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241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3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5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246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8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9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250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2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3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67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268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3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84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285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286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1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2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313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314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5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6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582B666-6414-40E1-813D-9A326A20C2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0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2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E8C0EA7-4A13-4516-AFE6-4F959E3187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5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EF86EC4-0B68-4DC9-8E2B-D5FEB0C60A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33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C6906B-CA97-4625-8355-65C240629D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s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8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5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90B60AF-CF0C-4501-943A-EADCA66CD4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8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349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4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355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7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8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359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1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3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364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6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7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368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0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382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7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388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1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392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4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6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397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9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0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401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3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4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sg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17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418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9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420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4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9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440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4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455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456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0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461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462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3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4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6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467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468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9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0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A299416-1979-4588-9A99-6C28912CC3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4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7" name="Text Box 7"/>
          <p:cNvSpPr/>
          <p:nvPr/>
        </p:nvSpPr>
        <p:spPr>
          <a:xfrm>
            <a:off x="433440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5BCFDB6-3339-4D37-8505-3CFCACE1C9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5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FCFAF73-303A-4A97-8CAD-840570C459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50D57F8-86B2-4912-84E8-9374F4C5C3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4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1FC07D3-0C41-44E8-B444-24385C4748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7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DDD52C9-60B0-42E5-B53E-FE0DAAE1FF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06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507" name="Text Box 11"/>
          <p:cNvSpPr/>
          <p:nvPr/>
        </p:nvSpPr>
        <p:spPr>
          <a:xfrm>
            <a:off x="486612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</a:t>
            </a:r>
            <a:r>
              <a:rPr b="0" i="1" lang="ja-JP" sz="28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C6DDC8C-E027-4F17-A63B-3646AA5D58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0" name="Group 23"/>
          <p:cNvGrpSpPr/>
          <p:nvPr/>
        </p:nvGrpSpPr>
        <p:grpSpPr>
          <a:xfrm>
            <a:off x="440280" y="1193760"/>
            <a:ext cx="8201160" cy="2445840"/>
            <a:chOff x="440280" y="1193760"/>
            <a:chExt cx="8201160" cy="2445840"/>
          </a:xfrm>
        </p:grpSpPr>
        <p:sp>
          <p:nvSpPr>
            <p:cNvPr id="4511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Text Box 14"/>
            <p:cNvSpPr/>
            <p:nvPr/>
          </p:nvSpPr>
          <p:spPr>
            <a:xfrm>
              <a:off x="44028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30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531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59081D4-7D85-4B1E-9056-91A7AEA518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7" name="Rectangle 20"/>
          <p:cNvSpPr/>
          <p:nvPr/>
        </p:nvSpPr>
        <p:spPr>
          <a:xfrm>
            <a:off x="6186600" y="5022720"/>
            <a:ext cx="26812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9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540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1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552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3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4" name="Straight Arrow Connector 24"/>
          <p:cNvCxnSpPr>
            <a:stCxn id="4553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91D8466-C5C2-4625-A3F1-5B4DFACA48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59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965C555-4B12-483F-A8C0-7AF2A7BEE4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4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E9A783-C469-4266-A81D-BDE13B6CF2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7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68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7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4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5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96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7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99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0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1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602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7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608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0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1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612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4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6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617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9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0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621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3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635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0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41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3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4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45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7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9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50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2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3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54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6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68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3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74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6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7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78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0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2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83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5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6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87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9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701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6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707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9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0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711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3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5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716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8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9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720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2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0AFF515-B321-4F70-827A-C8BE03BE05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recursive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0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751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3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9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760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2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763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4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5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766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7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8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769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4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775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7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8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779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1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3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784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6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7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788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0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1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802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7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808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0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1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812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4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6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817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9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0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821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3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4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835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0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841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3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4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845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7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9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850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2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3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854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6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7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868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3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874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6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7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878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0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2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883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5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6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887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9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92B3F9-E0DB-481E-B104-9EE5742F9B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2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04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1303BF2-F800-4DB5-8B04-5529778F77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111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113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127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9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149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6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167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172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6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177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0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81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3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86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9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90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2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95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8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99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204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7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208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0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213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6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217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9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1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223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6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227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232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236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8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241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4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245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250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254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259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2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263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5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7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268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272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277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278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90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1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92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93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05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6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308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9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311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2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3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314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317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9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0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321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2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3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324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9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330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3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334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339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343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357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363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6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367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9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372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376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8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90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1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2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3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4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0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401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3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414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5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7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8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4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425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1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438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9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0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1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2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8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449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5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1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462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3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465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6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7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8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9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5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476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2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0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491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C9A714-DB87-40E6-B5AC-9B8882CBCB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b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0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5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36CEDEE-85C4-4517-BD32-3615B45CC0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8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919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20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1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g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2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923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2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4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945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8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949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0EA19B-1047-4EE6-B5A6-BCA98CA26E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8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959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8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2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983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4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985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8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989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73BC2E1-0163-47B6-9DBB-FAD4A331BF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4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98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Comic Sans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9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0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280E180-6C1C-4656-999A-D3904102F6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2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105084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1E14DA1-99FC-42FC-93CF-D761416A79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6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7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08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D8FD3D6-69DC-4D1F-BD6B-37B5CF98BA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1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5012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3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5014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6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7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5028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9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30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9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5050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66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67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5068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5073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7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5078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1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5082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3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4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5087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0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5091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3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5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5096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9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5100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2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4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5105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8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5109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0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1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3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5114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7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5118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9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0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2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3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5124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7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5128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9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0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2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5133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6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5137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8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9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5142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5146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8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0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5151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4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5155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7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9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5160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3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5164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5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6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7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5168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1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5172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3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4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6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5177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5178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9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0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1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2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3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4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5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6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7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8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9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90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91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5192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5193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5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6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9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0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1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2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3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4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05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06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7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208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9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0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211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2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3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214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5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6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217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8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19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0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221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2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23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224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9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230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1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2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3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234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6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8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239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0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41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42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243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45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6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257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2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263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4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5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6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267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8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9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1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272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3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4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5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276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7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8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9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290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1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2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93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4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0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301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2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3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4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5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6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07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3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314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5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6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17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8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4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325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6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7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9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0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1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338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9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0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41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2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8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349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0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1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2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3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4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5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1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362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3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4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365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6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7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8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9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5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376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7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8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9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0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1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2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0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3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9425C6-7FFD-4B01-9D8C-A1EA81A075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8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1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412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3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414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2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9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430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5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436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8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440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4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445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7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8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449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1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2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463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4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5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466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7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469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0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1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472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3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6A464AE-33C7-4BA4-8903-DB427B1EE5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N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8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2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483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2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503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8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509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1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2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513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5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7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518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0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1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522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4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5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536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7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8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539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0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542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3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4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545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6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5D1F4B-22C1-4A97-A8C4-CAAF7F9729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1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3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554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ting max download rate) is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8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579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4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585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7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8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589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1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3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594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6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598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1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612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3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4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615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6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7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618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9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0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621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2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4909FB-3E6F-4F66-B844-6725DDA4A1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6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97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8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99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1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2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513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4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5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4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535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1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2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553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7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558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0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2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563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6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567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9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572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5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576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8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81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4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85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7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9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90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3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94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6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99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2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603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5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609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2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613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5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618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622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4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627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0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631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5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636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9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640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2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4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645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8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649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1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654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7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658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0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2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663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664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76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7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678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679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91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2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3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94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5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6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97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8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9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700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1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703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4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5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6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707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8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9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710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5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716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8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9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720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2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725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7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729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1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743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8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749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1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2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753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5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7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758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1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762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4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776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7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8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9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0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6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87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3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9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800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1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2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3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4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811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7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824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5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6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7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4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835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1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7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848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9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851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2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3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4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5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1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862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76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5248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877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0BE0A6D-023A-48A9-B5C1-324694355E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5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7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Text Box 5"/>
          <p:cNvSpPr/>
          <p:nvPr/>
        </p:nvSpPr>
        <p:spPr>
          <a:xfrm>
            <a:off x="11880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9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AC84551-47C9-44BE-BDFF-D9C8091479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3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8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649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1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652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3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654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7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8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659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4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665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7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8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669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1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3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674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6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7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678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0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1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692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3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4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695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6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7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698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9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0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701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2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3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704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5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6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707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8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9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710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1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2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713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4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5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716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7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5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5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97ED389-0543-45BF-A4D5-2ABA41B3E5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1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2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723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5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736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737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0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741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6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747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9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0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751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3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5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756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8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9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760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2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3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774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5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6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777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8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9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780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1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2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783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4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5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786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7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8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789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0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1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792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3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4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795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6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7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798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9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C05BAAF-4B44-4CAE-99EA-AC6FDDC5DE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23148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4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61D5F2B-1751-4457-9B4C-7B7E121207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9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810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4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6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817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Text Box 26"/>
          <p:cNvSpPr/>
          <p:nvPr/>
        </p:nvSpPr>
        <p:spPr>
          <a:xfrm>
            <a:off x="60084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4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825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826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7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8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829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0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1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832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3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4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835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6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7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838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9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0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841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2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3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844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5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6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847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8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9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850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1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852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3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4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855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6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857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8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5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5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5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5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9" name="PlaceHolder 1"/>
          <p:cNvSpPr>
            <a:spLocks noGrp="1"/>
          </p:cNvSpPr>
          <p:nvPr>
            <p:ph type="title"/>
          </p:nvPr>
        </p:nvSpPr>
        <p:spPr>
          <a:xfrm>
            <a:off x="50004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istributed Hash Table (DHT)</a:t>
            </a:r>
            <a:endParaRPr b="0" lang="en-US" sz="40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60" name=""/>
          <p:cNvSpPr txBox="1"/>
          <p:nvPr/>
        </p:nvSpPr>
        <p:spPr>
          <a:xfrm>
            <a:off x="568440" y="1411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HT: a </a:t>
            </a:r>
            <a:r>
              <a:rPr b="0" i="1" lang="en-US" sz="3200" spc="-1" strike="noStrike">
                <a:solidFill>
                  <a:srgbClr val="c00000"/>
                </a:solidFill>
                <a:latin typeface="Gill Sans MT"/>
              </a:rPr>
              <a:t>distributed P2P data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base ha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(key, value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irs; example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: ss number; value: human 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: movie title; value: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ribute the (key, value) pairs over the (millions of pe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peer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quer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HT with k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T returns values that match the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ers can also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key, value) pa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1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52458C28-E739-4AFC-A3D8-90BBBFEAC5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2" name="Picture 18" descr="underline_base"/>
          <p:cNvPicPr/>
          <p:nvPr/>
        </p:nvPicPr>
        <p:blipFill>
          <a:blip r:embed="rId1"/>
          <a:stretch/>
        </p:blipFill>
        <p:spPr>
          <a:xfrm>
            <a:off x="585720" y="993600"/>
            <a:ext cx="6399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511200" y="8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Q: how to assign keys to peers?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64" name=""/>
          <p:cNvSpPr txBox="1"/>
          <p:nvPr/>
        </p:nvSpPr>
        <p:spPr>
          <a:xfrm>
            <a:off x="633240" y="1284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entral issu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ing (key, value) pairs to pe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sic idea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 each key to an 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 integer to each pe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ut (key,value) pair in the peer that is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clos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the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5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B37731DD-9094-4DD1-81C8-1D61C5D3FE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6" name="Picture 16" descr="underline_base"/>
          <p:cNvPicPr/>
          <p:nvPr/>
        </p:nvPicPr>
        <p:blipFill>
          <a:blip r:embed="rId1"/>
          <a:stretch/>
        </p:blipFill>
        <p:spPr>
          <a:xfrm>
            <a:off x="595440" y="90972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T identifiers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68" name=""/>
          <p:cNvSpPr txBox="1"/>
          <p:nvPr/>
        </p:nvSpPr>
        <p:spPr>
          <a:xfrm>
            <a:off x="457200" y="1455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ign integer identifier to each peer in range [0,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1] for som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dentifier represented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quire each key to be an integer in same r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get integer key, hash original k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=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d Zeppelin IV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is why its is referred to as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istributed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ash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E9574D2E-48B7-4114-A819-F9262E7C8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0" name="Picture 24" descr="underline_base"/>
          <p:cNvPicPr/>
          <p:nvPr/>
        </p:nvPicPr>
        <p:blipFill>
          <a:blip r:embed="rId1"/>
          <a:stretch/>
        </p:blipFill>
        <p:spPr>
          <a:xfrm>
            <a:off x="617400" y="1047600"/>
            <a:ext cx="365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511200" y="8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ssign keys to peers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72" name=""/>
          <p:cNvSpPr txBox="1"/>
          <p:nvPr/>
        </p:nvSpPr>
        <p:spPr>
          <a:xfrm>
            <a:off x="633240" y="1284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: assign key to the peer that has the 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losest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vention in lecture: closest is the 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immediate successo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4; peers: 1,3,4,5,8,10,12,14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= 13, then successor peer =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 = 15, then successor peer =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3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B494E887-A513-4067-86F2-43DCDFEF58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4" name="Picture 36" descr="underline_base"/>
          <p:cNvPicPr/>
          <p:nvPr/>
        </p:nvPicPr>
        <p:blipFill>
          <a:blip r:embed="rId1"/>
          <a:stretch/>
        </p:blipFill>
        <p:spPr>
          <a:xfrm>
            <a:off x="442800" y="865080"/>
            <a:ext cx="5027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5" name="Group 42"/>
          <p:cNvGrpSpPr/>
          <p:nvPr/>
        </p:nvGrpSpPr>
        <p:grpSpPr>
          <a:xfrm>
            <a:off x="2323080" y="1219320"/>
            <a:ext cx="3744720" cy="3660480"/>
            <a:chOff x="2323080" y="1219320"/>
            <a:chExt cx="3744720" cy="3660480"/>
          </a:xfrm>
        </p:grpSpPr>
        <p:sp>
          <p:nvSpPr>
            <p:cNvPr id="5876" name="Oval 3"/>
            <p:cNvSpPr/>
            <p:nvPr/>
          </p:nvSpPr>
          <p:spPr>
            <a:xfrm>
              <a:off x="4166280" y="4334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Oval 4"/>
            <p:cNvSpPr/>
            <p:nvPr/>
          </p:nvSpPr>
          <p:spPr>
            <a:xfrm>
              <a:off x="2807280" y="2433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Oval 5"/>
            <p:cNvSpPr/>
            <p:nvPr/>
          </p:nvSpPr>
          <p:spPr>
            <a:xfrm>
              <a:off x="2831760" y="3521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Oval 6"/>
            <p:cNvSpPr/>
            <p:nvPr/>
          </p:nvSpPr>
          <p:spPr>
            <a:xfrm>
              <a:off x="5361480" y="2128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Oval 7"/>
            <p:cNvSpPr/>
            <p:nvPr/>
          </p:nvSpPr>
          <p:spPr>
            <a:xfrm>
              <a:off x="5654880" y="3000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Oval 8"/>
            <p:cNvSpPr/>
            <p:nvPr/>
          </p:nvSpPr>
          <p:spPr>
            <a:xfrm>
              <a:off x="5376240" y="37353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Oval 9"/>
            <p:cNvSpPr/>
            <p:nvPr/>
          </p:nvSpPr>
          <p:spPr>
            <a:xfrm>
              <a:off x="3363480" y="40914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Oval 10"/>
            <p:cNvSpPr/>
            <p:nvPr/>
          </p:nvSpPr>
          <p:spPr>
            <a:xfrm>
              <a:off x="2748600" y="1593360"/>
              <a:ext cx="2926800" cy="27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Text Box 11"/>
            <p:cNvSpPr/>
            <p:nvPr/>
          </p:nvSpPr>
          <p:spPr>
            <a:xfrm>
              <a:off x="4270320" y="121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Rectangle 12"/>
            <p:cNvSpPr/>
            <p:nvPr/>
          </p:nvSpPr>
          <p:spPr>
            <a:xfrm>
              <a:off x="5489280" y="205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3"/>
            <p:cNvSpPr/>
            <p:nvPr/>
          </p:nvSpPr>
          <p:spPr>
            <a:xfrm>
              <a:off x="5717880" y="289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Rectangle 14"/>
            <p:cNvSpPr/>
            <p:nvPr/>
          </p:nvSpPr>
          <p:spPr>
            <a:xfrm>
              <a:off x="5489280" y="365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Rectangle 15"/>
            <p:cNvSpPr/>
            <p:nvPr/>
          </p:nvSpPr>
          <p:spPr>
            <a:xfrm>
              <a:off x="4118040" y="442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16"/>
            <p:cNvSpPr/>
            <p:nvPr/>
          </p:nvSpPr>
          <p:spPr>
            <a:xfrm>
              <a:off x="3052080" y="4191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17"/>
            <p:cNvSpPr/>
            <p:nvPr/>
          </p:nvSpPr>
          <p:spPr>
            <a:xfrm>
              <a:off x="2394720" y="3429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18"/>
            <p:cNvSpPr/>
            <p:nvPr/>
          </p:nvSpPr>
          <p:spPr>
            <a:xfrm>
              <a:off x="2323080" y="2210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Oval 28"/>
            <p:cNvSpPr/>
            <p:nvPr/>
          </p:nvSpPr>
          <p:spPr>
            <a:xfrm>
              <a:off x="4284720" y="1553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3" name="Straight Connector 63"/>
          <p:cNvSpPr/>
          <p:nvPr/>
        </p:nvSpPr>
        <p:spPr>
          <a:xfrm>
            <a:off x="4114800" y="1523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4" name="Straight Connector 65"/>
          <p:cNvSpPr/>
          <p:nvPr/>
        </p:nvSpPr>
        <p:spPr>
          <a:xfrm flipH="1">
            <a:off x="4191120" y="159948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5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ircular DHT (1)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896" name=""/>
          <p:cNvSpPr txBox="1"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pe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ware of immediate successor and predecess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lay network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7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783CB0BF-D1BC-4C0B-A185-8EDCD47226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8" name="Picture 23" descr="underline_base"/>
          <p:cNvPicPr/>
          <p:nvPr/>
        </p:nvPicPr>
        <p:blipFill>
          <a:blip r:embed="rId1"/>
          <a:stretch/>
        </p:blipFill>
        <p:spPr>
          <a:xfrm>
            <a:off x="558720" y="87624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38E8556-1599-4E02-A351-45D63B3E6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6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88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9" name="Oval 3"/>
          <p:cNvSpPr/>
          <p:nvPr/>
        </p:nvSpPr>
        <p:spPr>
          <a:xfrm>
            <a:off x="4691160" y="579924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0" name="Oval 4"/>
          <p:cNvSpPr/>
          <p:nvPr/>
        </p:nvSpPr>
        <p:spPr>
          <a:xfrm>
            <a:off x="2925720" y="320508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1" name="Oval 5"/>
          <p:cNvSpPr/>
          <p:nvPr/>
        </p:nvSpPr>
        <p:spPr>
          <a:xfrm>
            <a:off x="2957400" y="468936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2" name="Oval 6"/>
          <p:cNvSpPr/>
          <p:nvPr/>
        </p:nvSpPr>
        <p:spPr>
          <a:xfrm>
            <a:off x="6243480" y="27892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3" name="Oval 7"/>
          <p:cNvSpPr/>
          <p:nvPr/>
        </p:nvSpPr>
        <p:spPr>
          <a:xfrm>
            <a:off x="6624720" y="397836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4" name="Oval 8"/>
          <p:cNvSpPr/>
          <p:nvPr/>
        </p:nvSpPr>
        <p:spPr>
          <a:xfrm>
            <a:off x="6262560" y="49816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5" name="Oval 9"/>
          <p:cNvSpPr/>
          <p:nvPr/>
        </p:nvSpPr>
        <p:spPr>
          <a:xfrm>
            <a:off x="3648240" y="546732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6" name="Oval 10"/>
          <p:cNvSpPr/>
          <p:nvPr/>
        </p:nvSpPr>
        <p:spPr>
          <a:xfrm>
            <a:off x="2849400" y="2058840"/>
            <a:ext cx="3802320" cy="381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7" name="Text Box 11"/>
          <p:cNvSpPr/>
          <p:nvPr/>
        </p:nvSpPr>
        <p:spPr>
          <a:xfrm>
            <a:off x="4611600" y="16527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Rectangle 12"/>
          <p:cNvSpPr/>
          <p:nvPr/>
        </p:nvSpPr>
        <p:spPr>
          <a:xfrm>
            <a:off x="5556960" y="2514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9" name="Rectangle 13"/>
          <p:cNvSpPr/>
          <p:nvPr/>
        </p:nvSpPr>
        <p:spPr>
          <a:xfrm>
            <a:off x="6794280" y="3890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0" name="Rectangle 14"/>
          <p:cNvSpPr/>
          <p:nvPr/>
        </p:nvSpPr>
        <p:spPr>
          <a:xfrm>
            <a:off x="6500520" y="4896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1" name="Rectangle 15"/>
          <p:cNvSpPr/>
          <p:nvPr/>
        </p:nvSpPr>
        <p:spPr>
          <a:xfrm>
            <a:off x="4873320" y="5850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2" name="Rectangle 16"/>
          <p:cNvSpPr/>
          <p:nvPr/>
        </p:nvSpPr>
        <p:spPr>
          <a:xfrm>
            <a:off x="3074760" y="56102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Rectangle 17"/>
          <p:cNvSpPr/>
          <p:nvPr/>
        </p:nvSpPr>
        <p:spPr>
          <a:xfrm>
            <a:off x="2243880" y="4510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Rectangle 18"/>
          <p:cNvSpPr/>
          <p:nvPr/>
        </p:nvSpPr>
        <p:spPr>
          <a:xfrm>
            <a:off x="2190600" y="2960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5" name="Group 19"/>
          <p:cNvGrpSpPr/>
          <p:nvPr/>
        </p:nvGrpSpPr>
        <p:grpSpPr>
          <a:xfrm>
            <a:off x="6616800" y="1676520"/>
            <a:ext cx="2299680" cy="993240"/>
            <a:chOff x="6616800" y="1676520"/>
            <a:chExt cx="2299680" cy="993240"/>
          </a:xfrm>
        </p:grpSpPr>
        <p:sp>
          <p:nvSpPr>
            <p:cNvPr id="5916" name="AutoShape 20"/>
            <p:cNvSpPr/>
            <p:nvPr/>
          </p:nvSpPr>
          <p:spPr>
            <a:xfrm>
              <a:off x="6616800" y="1676520"/>
              <a:ext cx="2278080" cy="99324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Text Box 21"/>
            <p:cNvSpPr/>
            <p:nvPr/>
          </p:nvSpPr>
          <p:spPr>
            <a:xfrm>
              <a:off x="6652440" y="1881720"/>
              <a:ext cx="226404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Who</a:t>
              </a:r>
              <a:r>
                <a:rPr b="0" lang="ja-JP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’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s respo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for key 1110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8" name="Line 22"/>
          <p:cNvSpPr/>
          <p:nvPr/>
        </p:nvSpPr>
        <p:spPr>
          <a:xfrm>
            <a:off x="6323040" y="3003480"/>
            <a:ext cx="288720" cy="952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Line 23"/>
          <p:cNvSpPr/>
          <p:nvPr/>
        </p:nvSpPr>
        <p:spPr>
          <a:xfrm flipH="1">
            <a:off x="6303960" y="4164120"/>
            <a:ext cx="301680" cy="79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Line 24"/>
          <p:cNvSpPr/>
          <p:nvPr/>
        </p:nvSpPr>
        <p:spPr>
          <a:xfrm flipH="1">
            <a:off x="4863600" y="5100480"/>
            <a:ext cx="1282680" cy="669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Line 25"/>
          <p:cNvSpPr/>
          <p:nvPr/>
        </p:nvSpPr>
        <p:spPr>
          <a:xfrm flipH="1" flipV="1">
            <a:off x="3855960" y="5521320"/>
            <a:ext cx="812880" cy="26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Line 26"/>
          <p:cNvSpPr/>
          <p:nvPr/>
        </p:nvSpPr>
        <p:spPr>
          <a:xfrm flipH="1" flipV="1">
            <a:off x="3110040" y="4793760"/>
            <a:ext cx="552240" cy="621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Line 27"/>
          <p:cNvSpPr/>
          <p:nvPr/>
        </p:nvSpPr>
        <p:spPr>
          <a:xfrm flipH="1" flipV="1">
            <a:off x="2960640" y="3422520"/>
            <a:ext cx="52560" cy="119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Oval 28"/>
          <p:cNvSpPr/>
          <p:nvPr/>
        </p:nvSpPr>
        <p:spPr>
          <a:xfrm>
            <a:off x="4844880" y="200484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5" name="Group 29"/>
          <p:cNvGrpSpPr/>
          <p:nvPr/>
        </p:nvGrpSpPr>
        <p:grpSpPr>
          <a:xfrm>
            <a:off x="2968560" y="2252520"/>
            <a:ext cx="3049560" cy="933120"/>
            <a:chOff x="2968560" y="2252520"/>
            <a:chExt cx="3049560" cy="933120"/>
          </a:xfrm>
        </p:grpSpPr>
        <p:grpSp>
          <p:nvGrpSpPr>
            <p:cNvPr id="5926" name="Group 30"/>
            <p:cNvGrpSpPr/>
            <p:nvPr/>
          </p:nvGrpSpPr>
          <p:grpSpPr>
            <a:xfrm>
              <a:off x="2968560" y="2252520"/>
              <a:ext cx="3049560" cy="933120"/>
              <a:chOff x="2968560" y="2252520"/>
              <a:chExt cx="3049560" cy="933120"/>
            </a:xfrm>
          </p:grpSpPr>
          <p:sp>
            <p:nvSpPr>
              <p:cNvPr id="5927" name="Line 31"/>
              <p:cNvSpPr/>
              <p:nvPr/>
            </p:nvSpPr>
            <p:spPr>
              <a:xfrm flipV="1">
                <a:off x="3081240" y="2877840"/>
                <a:ext cx="2936880" cy="307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AutoShape 32"/>
              <p:cNvSpPr/>
              <p:nvPr/>
            </p:nvSpPr>
            <p:spPr>
              <a:xfrm>
                <a:off x="2968560" y="2252520"/>
                <a:ext cx="1096920" cy="609840"/>
              </a:xfrm>
              <a:prstGeom prst="wedgeRoundRectCallout">
                <a:avLst>
                  <a:gd name="adj1" fmla="val 17439"/>
                  <a:gd name="adj2" fmla="val 87759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9" name="Text Box 33"/>
            <p:cNvSpPr/>
            <p:nvPr/>
          </p:nvSpPr>
          <p:spPr>
            <a:xfrm>
              <a:off x="3029040" y="227160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I 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0" name="Text Box 34"/>
          <p:cNvSpPr/>
          <p:nvPr/>
        </p:nvSpPr>
        <p:spPr>
          <a:xfrm>
            <a:off x="32040" y="1273320"/>
            <a:ext cx="346500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avgerage to re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ery, when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Text Box 36"/>
          <p:cNvSpPr/>
          <p:nvPr/>
        </p:nvSpPr>
        <p:spPr>
          <a:xfrm>
            <a:off x="5942880" y="3429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Text Box 37"/>
          <p:cNvSpPr/>
          <p:nvPr/>
        </p:nvSpPr>
        <p:spPr>
          <a:xfrm>
            <a:off x="5942880" y="4343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Text Box 38"/>
          <p:cNvSpPr/>
          <p:nvPr/>
        </p:nvSpPr>
        <p:spPr>
          <a:xfrm>
            <a:off x="5181120" y="5105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Text Box 39"/>
          <p:cNvSpPr/>
          <p:nvPr/>
        </p:nvSpPr>
        <p:spPr>
          <a:xfrm>
            <a:off x="4114080" y="5410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5" name="Text Box 40"/>
          <p:cNvSpPr/>
          <p:nvPr/>
        </p:nvSpPr>
        <p:spPr>
          <a:xfrm>
            <a:off x="3352320" y="4952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Text Box 41"/>
          <p:cNvSpPr/>
          <p:nvPr/>
        </p:nvSpPr>
        <p:spPr>
          <a:xfrm>
            <a:off x="2971080" y="396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7" name="Text Box 42"/>
          <p:cNvSpPr/>
          <p:nvPr/>
        </p:nvSpPr>
        <p:spPr>
          <a:xfrm>
            <a:off x="372240" y="5375160"/>
            <a:ext cx="17809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Defin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losest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as closest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c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D9CC7B24-5351-4E24-8F79-1FA3DB9B5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9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ircular DHT (1)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pic>
        <p:nvPicPr>
          <p:cNvPr id="5940" name="Picture 23" descr="underline_base"/>
          <p:cNvPicPr/>
          <p:nvPr/>
        </p:nvPicPr>
        <p:blipFill>
          <a:blip r:embed="rId1"/>
          <a:stretch/>
        </p:blipFill>
        <p:spPr>
          <a:xfrm>
            <a:off x="558720" y="87624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5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5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5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ircular DHT with shortcuts</a:t>
            </a:r>
            <a:endParaRPr b="0" lang="en-US" sz="40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942" name=""/>
          <p:cNvSpPr txBox="1"/>
          <p:nvPr/>
        </p:nvSpPr>
        <p:spPr>
          <a:xfrm>
            <a:off x="647640" y="466740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keeps track of IP addresses of predecessor, successor, short cu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uced from 6 to 2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sible to design shortcuts s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log 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log 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s in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43" name="Group 66"/>
          <p:cNvGrpSpPr/>
          <p:nvPr/>
        </p:nvGrpSpPr>
        <p:grpSpPr>
          <a:xfrm>
            <a:off x="2246760" y="914400"/>
            <a:ext cx="3744720" cy="3660480"/>
            <a:chOff x="2246760" y="914400"/>
            <a:chExt cx="3744720" cy="3660480"/>
          </a:xfrm>
        </p:grpSpPr>
        <p:grpSp>
          <p:nvGrpSpPr>
            <p:cNvPr id="5944" name="Group 43"/>
            <p:cNvGrpSpPr/>
            <p:nvPr/>
          </p:nvGrpSpPr>
          <p:grpSpPr>
            <a:xfrm>
              <a:off x="2246760" y="914400"/>
              <a:ext cx="3744720" cy="3660480"/>
              <a:chOff x="2246760" y="914400"/>
              <a:chExt cx="3744720" cy="3660480"/>
            </a:xfrm>
          </p:grpSpPr>
          <p:sp>
            <p:nvSpPr>
              <p:cNvPr id="5945" name="Oval 3"/>
              <p:cNvSpPr/>
              <p:nvPr/>
            </p:nvSpPr>
            <p:spPr>
              <a:xfrm>
                <a:off x="4089960" y="4029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Oval 4"/>
              <p:cNvSpPr/>
              <p:nvPr/>
            </p:nvSpPr>
            <p:spPr>
              <a:xfrm>
                <a:off x="2730960" y="2128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Oval 5"/>
              <p:cNvSpPr/>
              <p:nvPr/>
            </p:nvSpPr>
            <p:spPr>
              <a:xfrm>
                <a:off x="2755440" y="32166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Oval 6"/>
              <p:cNvSpPr/>
              <p:nvPr/>
            </p:nvSpPr>
            <p:spPr>
              <a:xfrm>
                <a:off x="5285160" y="182376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Oval 7"/>
              <p:cNvSpPr/>
              <p:nvPr/>
            </p:nvSpPr>
            <p:spPr>
              <a:xfrm>
                <a:off x="5578560" y="2695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Oval 8"/>
              <p:cNvSpPr/>
              <p:nvPr/>
            </p:nvSpPr>
            <p:spPr>
              <a:xfrm>
                <a:off x="5299920" y="34304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Oval 9"/>
              <p:cNvSpPr/>
              <p:nvPr/>
            </p:nvSpPr>
            <p:spPr>
              <a:xfrm>
                <a:off x="3287160" y="378648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Oval 10"/>
              <p:cNvSpPr/>
              <p:nvPr/>
            </p:nvSpPr>
            <p:spPr>
              <a:xfrm>
                <a:off x="2672280" y="1288440"/>
                <a:ext cx="2926800" cy="2793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Text Box 11"/>
              <p:cNvSpPr/>
              <p:nvPr/>
            </p:nvSpPr>
            <p:spPr>
              <a:xfrm>
                <a:off x="4194000" y="914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Rectangle 12"/>
              <p:cNvSpPr/>
              <p:nvPr/>
            </p:nvSpPr>
            <p:spPr>
              <a:xfrm>
                <a:off x="5320440" y="1523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Rectangle 13"/>
              <p:cNvSpPr/>
              <p:nvPr/>
            </p:nvSpPr>
            <p:spPr>
              <a:xfrm>
                <a:off x="5641560" y="2590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Rectangle 14"/>
              <p:cNvSpPr/>
              <p:nvPr/>
            </p:nvSpPr>
            <p:spPr>
              <a:xfrm>
                <a:off x="5412960" y="3353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Rectangle 15"/>
              <p:cNvSpPr/>
              <p:nvPr/>
            </p:nvSpPr>
            <p:spPr>
              <a:xfrm>
                <a:off x="4041720" y="4115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Rectangle 16"/>
              <p:cNvSpPr/>
              <p:nvPr/>
            </p:nvSpPr>
            <p:spPr>
              <a:xfrm>
                <a:off x="2975760" y="3886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Rectangle 17"/>
              <p:cNvSpPr/>
              <p:nvPr/>
            </p:nvSpPr>
            <p:spPr>
              <a:xfrm>
                <a:off x="2282400" y="31244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Rectangle 18"/>
              <p:cNvSpPr/>
              <p:nvPr/>
            </p:nvSpPr>
            <p:spPr>
              <a:xfrm>
                <a:off x="2246760" y="1905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Oval 28"/>
              <p:cNvSpPr/>
              <p:nvPr/>
            </p:nvSpPr>
            <p:spPr>
              <a:xfrm>
                <a:off x="4208400" y="1248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962" name="Straight Arrow Connector 79"/>
            <p:cNvCxnSpPr>
              <a:endCxn id="5951" idx="7"/>
            </p:cNvCxnSpPr>
            <p:nvPr/>
          </p:nvCxnSpPr>
          <p:spPr>
            <a:xfrm flipH="1">
              <a:off x="3368160" y="2742120"/>
              <a:ext cx="2255040" cy="10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3" name="Straight Arrow Connector 86"/>
            <p:cNvCxnSpPr>
              <a:stCxn id="5950" idx="1"/>
              <a:endCxn id="5947" idx="6"/>
            </p:cNvCxnSpPr>
            <p:nvPr/>
          </p:nvCxnSpPr>
          <p:spPr>
            <a:xfrm flipH="1" flipV="1">
              <a:off x="2850840" y="3265200"/>
              <a:ext cx="2463120" cy="1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4" name="Straight Arrow Connector 89"/>
            <p:cNvCxnSpPr>
              <a:stCxn id="5945" idx="0"/>
            </p:cNvCxnSpPr>
            <p:nvPr/>
          </p:nvCxnSpPr>
          <p:spPr>
            <a:xfrm flipH="1" flipV="1">
              <a:off x="2818800" y="2209320"/>
              <a:ext cx="1319760" cy="182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5" name="Straight Arrow Connector 92"/>
            <p:cNvCxnSpPr/>
            <p:nvPr/>
          </p:nvCxnSpPr>
          <p:spPr>
            <a:xfrm flipV="1">
              <a:off x="3351600" y="1294560"/>
              <a:ext cx="888120" cy="24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6" name="Straight Arrow Connector 95"/>
            <p:cNvCxnSpPr>
              <a:stCxn id="5947" idx="7"/>
            </p:cNvCxnSpPr>
            <p:nvPr/>
          </p:nvCxnSpPr>
          <p:spPr>
            <a:xfrm flipV="1">
              <a:off x="2835720" y="1904400"/>
              <a:ext cx="2498040" cy="13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7" name="Straight Arrow Connector 100"/>
            <p:cNvCxnSpPr>
              <a:endCxn id="5952" idx="6"/>
            </p:cNvCxnSpPr>
            <p:nvPr/>
          </p:nvCxnSpPr>
          <p:spPr>
            <a:xfrm>
              <a:off x="2819160" y="2177640"/>
              <a:ext cx="2780640" cy="50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8" name="Straight Arrow Connector 103"/>
            <p:cNvCxnSpPr>
              <a:stCxn id="5961" idx="5"/>
            </p:cNvCxnSpPr>
            <p:nvPr/>
          </p:nvCxnSpPr>
          <p:spPr>
            <a:xfrm>
              <a:off x="4289760" y="1333080"/>
              <a:ext cx="104364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69" name="Straight Arrow Connector 107"/>
            <p:cNvCxnSpPr/>
            <p:nvPr/>
          </p:nvCxnSpPr>
          <p:spPr>
            <a:xfrm flipH="1">
              <a:off x="4190400" y="1904760"/>
              <a:ext cx="1199160" cy="217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5970" name="Straight Arrow Connector 33"/>
          <p:cNvCxnSpPr/>
          <p:nvPr/>
        </p:nvCxnSpPr>
        <p:spPr>
          <a:xfrm flipH="1">
            <a:off x="4342680" y="1980720"/>
            <a:ext cx="1143720" cy="2134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71" name="Straight Arrow Connector 35"/>
          <p:cNvCxnSpPr/>
          <p:nvPr/>
        </p:nvCxnSpPr>
        <p:spPr>
          <a:xfrm flipH="1" flipV="1">
            <a:off x="2742480" y="2285640"/>
            <a:ext cx="1220040" cy="1829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5972" name="Group 19"/>
          <p:cNvGrpSpPr/>
          <p:nvPr/>
        </p:nvGrpSpPr>
        <p:grpSpPr>
          <a:xfrm>
            <a:off x="5694480" y="1030320"/>
            <a:ext cx="2486880" cy="860400"/>
            <a:chOff x="5694480" y="1030320"/>
            <a:chExt cx="2486880" cy="860400"/>
          </a:xfrm>
        </p:grpSpPr>
        <p:sp>
          <p:nvSpPr>
            <p:cNvPr id="5973" name="AutoShape 20"/>
            <p:cNvSpPr/>
            <p:nvPr/>
          </p:nvSpPr>
          <p:spPr>
            <a:xfrm>
              <a:off x="5694480" y="1030320"/>
              <a:ext cx="2392920" cy="86040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Text Box 21"/>
            <p:cNvSpPr/>
            <p:nvPr/>
          </p:nvSpPr>
          <p:spPr>
            <a:xfrm>
              <a:off x="5806080" y="1104840"/>
              <a:ext cx="2375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Who</a:t>
              </a:r>
              <a:r>
                <a:rPr b="0" lang="ja-JP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’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s responsib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or key 1110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5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6D0B3632-FED4-4EE2-9634-6F81DFDD71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6" name="Picture 19" descr="underline_base"/>
          <p:cNvPicPr/>
          <p:nvPr/>
        </p:nvPicPr>
        <p:blipFill>
          <a:blip r:embed="rId1"/>
          <a:stretch/>
        </p:blipFill>
        <p:spPr>
          <a:xfrm>
            <a:off x="312840" y="8096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5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5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eer churn</a:t>
            </a:r>
            <a:endParaRPr b="0" lang="en-US" sz="4400" spc="-1" strike="noStrike" u="sng">
              <a:solidFill>
                <a:srgbClr val="000099"/>
              </a:solidFill>
              <a:uFillTx/>
              <a:latin typeface="Comic Sans MS"/>
            </a:endParaRPr>
          </a:p>
        </p:txBody>
      </p:sp>
      <p:sp>
        <p:nvSpPr>
          <p:cNvPr id="5978" name=""/>
          <p:cNvSpPr txBox="1"/>
          <p:nvPr/>
        </p:nvSpPr>
        <p:spPr>
          <a:xfrm>
            <a:off x="457200" y="4370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Gill Sans MT"/>
              </a:rPr>
              <a:t>example: peer 5 abruptly leav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er 4 detects peer 5 departure; makes 8 its immediate successor; asks 8 who its immediate successor is; makes 8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 immediate successor its second successor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f peer 13 wants to join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79" name="Group 42"/>
          <p:cNvGrpSpPr/>
          <p:nvPr/>
        </p:nvGrpSpPr>
        <p:grpSpPr>
          <a:xfrm>
            <a:off x="262440" y="814320"/>
            <a:ext cx="3744720" cy="3660480"/>
            <a:chOff x="262440" y="814320"/>
            <a:chExt cx="3744720" cy="3660480"/>
          </a:xfrm>
        </p:grpSpPr>
        <p:sp>
          <p:nvSpPr>
            <p:cNvPr id="5980" name="Oval 3"/>
            <p:cNvSpPr/>
            <p:nvPr/>
          </p:nvSpPr>
          <p:spPr>
            <a:xfrm>
              <a:off x="2105640" y="3929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Oval 4"/>
            <p:cNvSpPr/>
            <p:nvPr/>
          </p:nvSpPr>
          <p:spPr>
            <a:xfrm>
              <a:off x="746640" y="2028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Oval 5"/>
            <p:cNvSpPr/>
            <p:nvPr/>
          </p:nvSpPr>
          <p:spPr>
            <a:xfrm>
              <a:off x="771120" y="3116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Oval 6"/>
            <p:cNvSpPr/>
            <p:nvPr/>
          </p:nvSpPr>
          <p:spPr>
            <a:xfrm>
              <a:off x="3300840" y="1723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Oval 7"/>
            <p:cNvSpPr/>
            <p:nvPr/>
          </p:nvSpPr>
          <p:spPr>
            <a:xfrm>
              <a:off x="3594240" y="2595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Oval 8"/>
            <p:cNvSpPr/>
            <p:nvPr/>
          </p:nvSpPr>
          <p:spPr>
            <a:xfrm>
              <a:off x="3315600" y="33303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Oval 9"/>
            <p:cNvSpPr/>
            <p:nvPr/>
          </p:nvSpPr>
          <p:spPr>
            <a:xfrm>
              <a:off x="1302840" y="36864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Oval 10"/>
            <p:cNvSpPr/>
            <p:nvPr/>
          </p:nvSpPr>
          <p:spPr>
            <a:xfrm>
              <a:off x="687960" y="1188360"/>
              <a:ext cx="2926800" cy="27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Text Box 11"/>
            <p:cNvSpPr/>
            <p:nvPr/>
          </p:nvSpPr>
          <p:spPr>
            <a:xfrm>
              <a:off x="2209680" y="81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Rectangle 12"/>
            <p:cNvSpPr/>
            <p:nvPr/>
          </p:nvSpPr>
          <p:spPr>
            <a:xfrm>
              <a:off x="3428640" y="1652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Rectangle 13"/>
            <p:cNvSpPr/>
            <p:nvPr/>
          </p:nvSpPr>
          <p:spPr>
            <a:xfrm>
              <a:off x="3657240" y="2490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Rectangle 14"/>
            <p:cNvSpPr/>
            <p:nvPr/>
          </p:nvSpPr>
          <p:spPr>
            <a:xfrm>
              <a:off x="3428640" y="325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Rectangle 15"/>
            <p:cNvSpPr/>
            <p:nvPr/>
          </p:nvSpPr>
          <p:spPr>
            <a:xfrm>
              <a:off x="2057400" y="4015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Rectangle 16"/>
            <p:cNvSpPr/>
            <p:nvPr/>
          </p:nvSpPr>
          <p:spPr>
            <a:xfrm>
              <a:off x="991440" y="3786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Rectangle 17"/>
            <p:cNvSpPr/>
            <p:nvPr/>
          </p:nvSpPr>
          <p:spPr>
            <a:xfrm>
              <a:off x="286200" y="3024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Rectangle 18"/>
            <p:cNvSpPr/>
            <p:nvPr/>
          </p:nvSpPr>
          <p:spPr>
            <a:xfrm>
              <a:off x="262440" y="1805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Oval 28"/>
            <p:cNvSpPr/>
            <p:nvPr/>
          </p:nvSpPr>
          <p:spPr>
            <a:xfrm>
              <a:off x="2224080" y="1148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7" name="Straight Connector 63"/>
          <p:cNvSpPr/>
          <p:nvPr/>
        </p:nvSpPr>
        <p:spPr>
          <a:xfrm>
            <a:off x="2054160" y="111924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Straight Connector 65"/>
          <p:cNvSpPr/>
          <p:nvPr/>
        </p:nvSpPr>
        <p:spPr>
          <a:xfrm flipH="1">
            <a:off x="2130480" y="119484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Straight Connector 24"/>
          <p:cNvSpPr/>
          <p:nvPr/>
        </p:nvSpPr>
        <p:spPr>
          <a:xfrm>
            <a:off x="3273480" y="3252960"/>
            <a:ext cx="228600" cy="1839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Straight Connector 26"/>
          <p:cNvSpPr/>
          <p:nvPr/>
        </p:nvSpPr>
        <p:spPr>
          <a:xfrm flipH="1">
            <a:off x="3196800" y="3252960"/>
            <a:ext cx="406440" cy="228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TextBox 28"/>
          <p:cNvSpPr/>
          <p:nvPr/>
        </p:nvSpPr>
        <p:spPr>
          <a:xfrm>
            <a:off x="4491000" y="544680"/>
            <a:ext cx="442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andling peer chu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may come and go (ch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knows address of its two success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periodically ping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successors to check al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mmediate successor leaves, choose next successor as new immediat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2" name="Straight Arrow Connector 30"/>
          <p:cNvCxnSpPr>
            <a:stCxn id="5990" idx="1"/>
          </p:cNvCxnSpPr>
          <p:nvPr/>
        </p:nvCxnSpPr>
        <p:spPr>
          <a:xfrm flipH="1">
            <a:off x="3206160" y="2722680"/>
            <a:ext cx="448200" cy="265680"/>
          </a:xfrm>
          <a:prstGeom prst="straightConnector1">
            <a:avLst/>
          </a:prstGeom>
          <a:ln w="0">
            <a:noFill/>
          </a:ln>
        </p:spPr>
      </p:cxnSp>
      <p:sp>
        <p:nvSpPr>
          <p:cNvPr id="6003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53A73CB2-A8F2-4F0D-9453-D80C1EC4D7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4" name="Picture 24" descr="underline_base"/>
          <p:cNvPicPr/>
          <p:nvPr/>
        </p:nvPicPr>
        <p:blipFill>
          <a:blip r:embed="rId1"/>
          <a:stretch/>
        </p:blipFill>
        <p:spPr>
          <a:xfrm>
            <a:off x="438120" y="797040"/>
            <a:ext cx="26845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5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0E95949-8A7A-408F-BEAF-98AF4A4CC3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8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9" name="PlaceHolder 3"/>
          <p:cNvSpPr>
            <a:spLocks noGrp="1"/>
          </p:cNvSpPr>
          <p:nvPr>
            <p:ph/>
          </p:nvPr>
        </p:nvSpPr>
        <p:spPr>
          <a:xfrm>
            <a:off x="4673160" y="163656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10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39FDFF3-A1EF-4D00-ACA0-6C0D7659E7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4" name="PlaceHolder 2"/>
          <p:cNvSpPr>
            <a:spLocks noGrp="1"/>
          </p:cNvSpPr>
          <p:nvPr>
            <p:ph/>
          </p:nvPr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015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6016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5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6036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0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2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6053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7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3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6064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5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6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6067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8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69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E30B0E-73B4-45E3-A43A-D5463DC69F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/>
          </p:nvPr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74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6075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the data to th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erver receives the data and converts characters to upper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erver sends the modified data to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client receives the modified data and displays the line on its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153873A-8A6D-47A2-9D68-E89FDD9270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8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607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80" name="PlaceHolder 2"/>
          <p:cNvSpPr>
            <a:spLocks noGrp="1"/>
          </p:cNvSpPr>
          <p:nvPr>
            <p:ph/>
          </p:nvPr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1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6083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6084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6085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8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9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6090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6091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3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7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9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6100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2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6103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6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DFBB4B60-8092-4D11-BA32-9326267540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7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6108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9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0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1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6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51060E5-6ABC-4A69-B140-9292AEA64F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4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5" name="TextBox 1"/>
          <p:cNvSpPr/>
          <p:nvPr/>
        </p:nvSpPr>
        <p:spPr>
          <a:xfrm>
            <a:off x="2735640" y="1650960"/>
            <a:ext cx="610596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socket.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et.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,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6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7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6118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0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6121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3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6124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6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6127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Straight Connector 39"/>
            <p:cNvSpPr/>
            <p:nvPr/>
          </p:nvSpPr>
          <p:spPr>
            <a:xfrm>
              <a:off x="2069640" y="4444200"/>
              <a:ext cx="66564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9" name="Group 55"/>
          <p:cNvGrpSpPr/>
          <p:nvPr/>
        </p:nvGrpSpPr>
        <p:grpSpPr>
          <a:xfrm>
            <a:off x="214200" y="5472000"/>
            <a:ext cx="2511360" cy="520200"/>
            <a:chOff x="214200" y="5472000"/>
            <a:chExt cx="2511360" cy="520200"/>
          </a:xfrm>
        </p:grpSpPr>
        <p:sp>
          <p:nvSpPr>
            <p:cNvPr id="6130" name="TextBox 61"/>
            <p:cNvSpPr/>
            <p:nvPr/>
          </p:nvSpPr>
          <p:spPr>
            <a:xfrm>
              <a:off x="214200" y="547200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Straight Connector 62"/>
            <p:cNvSpPr/>
            <p:nvPr/>
          </p:nvSpPr>
          <p:spPr>
            <a:xfrm>
              <a:off x="2229840" y="565776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2" name="Group 54"/>
          <p:cNvGrpSpPr/>
          <p:nvPr/>
        </p:nvGrpSpPr>
        <p:grpSpPr>
          <a:xfrm>
            <a:off x="-157320" y="4530600"/>
            <a:ext cx="2900520" cy="676440"/>
            <a:chOff x="-157320" y="4530600"/>
            <a:chExt cx="2900520" cy="676440"/>
          </a:xfrm>
        </p:grpSpPr>
        <p:sp>
          <p:nvSpPr>
            <p:cNvPr id="6133" name="TextBox 56"/>
            <p:cNvSpPr/>
            <p:nvPr/>
          </p:nvSpPr>
          <p:spPr>
            <a:xfrm>
              <a:off x="192600" y="464256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Straight Connector 59"/>
            <p:cNvSpPr/>
            <p:nvPr/>
          </p:nvSpPr>
          <p:spPr>
            <a:xfrm flipV="1">
              <a:off x="2415960" y="483048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TextBox 53"/>
            <p:cNvSpPr/>
            <p:nvPr/>
          </p:nvSpPr>
          <p:spPr>
            <a:xfrm>
              <a:off x="-157320" y="453060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6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6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6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6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6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6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6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8877723-13CB-4E8B-BE05-9BAF8BA08D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9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TextBox 1"/>
          <p:cNvSpPr/>
          <p:nvPr/>
        </p:nvSpPr>
        <p:spPr>
          <a:xfrm>
            <a:off x="2757960" y="1650960"/>
            <a:ext cx="6063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, 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1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2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6143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5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6146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8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6149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1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6152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4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6155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7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6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6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6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6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6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6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2-05-06T19:43:19Z</dcterms:modified>
  <cp:revision>306</cp:revision>
  <dc:subject/>
  <dc:title>3rd Edition: Chapter 2</dc:title>
</cp:coreProperties>
</file>